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10.png" ContentType="image/pn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2.jpeg" ContentType="image/jpeg"/>
  <Override PartName="/ppt/media/image34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5.png" ContentType="image/png"/>
  <Override PartName="/ppt/media/image29.jpeg" ContentType="image/jpeg"/>
  <Override PartName="/ppt/media/image8.png" ContentType="image/png"/>
  <Override PartName="/ppt/media/image14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016A4A-C868-4418-BB10-E71E34FFF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1D35BE-309B-48A9-85A3-C47AA2DD9D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5E573F-78AE-4BDF-88D0-6D2CF83EE07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467988-392C-4CCE-9107-739A4CD9B76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4D190B-C6E9-4DA8-A8F6-C87C410C24B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9BC9-7EFA-4649-A1A8-946EA905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D34B-BE95-4954-A8EB-0DFD8526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441E-288F-4206-9F7B-309B0F34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40D3-8BF6-4667-93C9-EB21DED0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CE9C-1F33-41CD-A6A4-2527B6E6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8FD6-B9FE-4AFB-995F-B17D0915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A922-D704-4BB4-9DDD-40BBF868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E906-6C1A-4B39-9C30-9E46E063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004F-8E02-4B03-8CA9-EBADB51F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7860-0430-40FD-AA63-A69AE6A0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A554-7A95-4410-8BD7-A909C260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9A8F-5EF6-4023-922B-0C64B3BB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0B74-3A42-4516-ACED-BCB2BDC7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304F-95E0-40DB-8F65-31A2EC72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78C0-D755-4CC9-B322-868BB76E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7309-07C4-4744-B4EB-07D97996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3DD7-065E-4C9B-B5E3-590765BF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C7AAF-E13D-4C5D-9237-EC337614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46766-5AA1-43AD-A20D-421D3401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7FE6E-8DB6-4AFC-9942-C3C31AC4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85551-3B05-40DF-BA67-694C47FC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2898C-F666-4CC2-9D13-40EE1A85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B590-8EF6-4F94-BA44-08D59E51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E1967-D388-4444-8CC8-71F891B8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C69BF-9E9B-41BB-9778-F50CD5F2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1BEC2-39E6-4075-8848-0D61D916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37426-0407-4389-BCFC-D6061DA3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8CCBE-1228-4519-A269-22B0ECD8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E3102-BC69-48B1-BF5E-972C89E7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5C5C4-44E2-429A-B63C-F1F388D4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489C1-340F-46EA-BD8E-0FD36BC3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920D9-D86C-4C41-86C8-9167D6E7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83256-FC0E-493E-A73D-A53332F5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AA85-4241-4A09-999D-61DB23BC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D764A-BE0B-4157-94F1-84F22822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DF6CB-DAAE-4E9B-B0CA-E8D93F0D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C2976-0B13-4570-A3A6-28BC895C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F9C64-509E-4F8F-935D-EB5221C4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75F07-F77C-4A72-A011-3970A18B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FCB28-0C2F-4BF7-BAD8-CE1A1E32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254B0-43BB-4B23-95CC-7AADA6C7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6B4E8-B92D-4822-BBCF-9A93A22B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7E9D0-BC6A-4382-85BF-DC658ABB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05989-4FBF-49D2-A8EA-EA575D96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C43F-56A6-4CC0-861B-04245DFD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08D95-6838-42CC-A915-A02074A3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FEEDB-1421-4AED-BD84-C54E3202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C69B2-0B16-4FBE-8AAB-1EFA1157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2D5A2-4539-48DA-9685-375ADFF9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2699F-42E1-4369-9742-D7B11EB5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C4A4D-2797-4C6C-8485-E57E3CB4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1532B-2AF5-4B63-AB11-75C2A2A5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C6B32-2818-4333-8DCF-03858FD4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82A4F-C242-4E85-ADB7-6862AD27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0CCAF-82C2-47AD-B217-53AE5068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CDDD-833A-4CC6-8754-11B8BFDA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89774-23FA-4080-8C3D-65457B9B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E575-9F10-4FB2-A9B1-C2785882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F6BF-E9C7-4B84-AD67-91DA0A44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C12A-D2BD-41A0-A889-8A6B597E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171279C-E021-417F-BFA5-955A89FAB074}" type="slidenum">
              <a:rPr b="0" lang="ru-RU" sz="1600" spc="-1" strike="noStrike">
                <a:solidFill>
                  <a:srgbClr val="fefac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4003AB8-12EF-4997-9971-A78A5E19F2AA}" type="slidenum">
              <a:rPr b="0" lang="ru-RU" sz="1600" spc="-1" strike="noStrike">
                <a:solidFill>
                  <a:srgbClr val="fefac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1DBF8C-E61E-4E5C-B716-A58118F7D932}" type="slidenum">
              <a:rPr b="0" lang="ru-RU" sz="1200" spc="-1" strike="noStrike">
                <a:solidFill>
                  <a:srgbClr val="8b8b8b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E2F9CE-98BA-44A5-AFF0-D17EB0E15186}" type="slidenum">
              <a:rPr b="0" lang="ru-RU" sz="1200" spc="-1" strike="noStrike">
                <a:solidFill>
                  <a:srgbClr val="8b8b8b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600D15-3854-4781-BFDB-ABE856FD0353}" type="slidenum">
              <a:rPr b="0" lang="ru-RU" sz="1200" spc="-1" strike="noStrike">
                <a:solidFill>
                  <a:srgbClr val="8b8b8b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upload.wikimedia.org/wikipedia/commons/f/f7/Biohazard.svg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Radioactive.svg" TargetMode="External"/><Relationship Id="rId2" Type="http://schemas.openxmlformats.org/officeDocument/2006/relationships/hyperlink" Target="http://ru.wikipedia.org/wiki/&#1060;&#1072;&#1081;&#1083;:Radioactive.svg" TargetMode="External"/><Relationship Id="rId3" Type="http://schemas.openxmlformats.org/officeDocument/2006/relationships/hyperlink" Target="http://ru.wikipedia.org/wiki/&#1060;&#1072;&#1081;&#1083;:Radioactive.svg" TargetMode="External"/><Relationship Id="rId4" Type="http://schemas.openxmlformats.org/officeDocument/2006/relationships/hyperlink" Target="http://ru.wikipedia.org/w/index.php?title=&#1043;&#1054;&#1057;&#1058;_&#1056;_12.4.026&amp;action=edit&amp;redlink=1" TargetMode="External"/><Relationship Id="rId5" Type="http://schemas.openxmlformats.org/officeDocument/2006/relationships/hyperlink" Target="http://ru.wikipedia.org/w/index.php?title=&#1043;&#1054;&#1057;&#1058;_&#1056;_12.4.026&amp;action=edit&amp;redlink=1" TargetMode="External"/><Relationship Id="rId6" Type="http://schemas.openxmlformats.org/officeDocument/2006/relationships/hyperlink" Target="http://ru.wikipedia.org/wiki/&#1060;&#1072;&#1081;&#1083;:Radioactive.svg" TargetMode="External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6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hyperlink" Target="file://upload.wikimedia.org/wikipedia/commons/b/bb/Hazard_E.svg" TargetMode="External"/><Relationship Id="rId9" Type="http://schemas.openxmlformats.org/officeDocument/2006/relationships/image" Target="../media/image16.png"/><Relationship Id="rId10" Type="http://schemas.openxmlformats.org/officeDocument/2006/relationships/hyperlink" Target="file://upload.wikimedia.org/wikipedia/commons/3/39/Hazard_T.svg" TargetMode="External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d/dd/Achtung.svg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0200" y="1268640"/>
            <a:ext cx="8713440" cy="28645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00" strike="noStrike">
                <a:solidFill>
                  <a:srgbClr val="f9f9f9"/>
                </a:solidFill>
                <a:latin typeface="Constantia"/>
              </a:rPr>
              <a:t>Террористические угрозы с применением радиоактивных, взрывчатых и химических веществ и оценка террористической уязвимости критически важных объекто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Box 2"/>
          <p:cNvSpPr/>
          <p:nvPr/>
        </p:nvSpPr>
        <p:spPr>
          <a:xfrm>
            <a:off x="2481480" y="6334920"/>
            <a:ext cx="6662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chemeClr val="accent1"/>
                </a:solidFill>
                <a:latin typeface="Verdana"/>
              </a:rPr>
              <a:t>Кириллов Владимир Михайл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http://t1.gstatic.com/images?q=tbn:ANd9GcRwYh2QnFglvvLDIMcEK7h1fIfmV-5PEYRQYLRXPc3hDe8H67D4"/>
          <p:cNvPicPr/>
          <p:nvPr/>
        </p:nvPicPr>
        <p:blipFill>
          <a:blip r:embed="rId1"/>
          <a:stretch/>
        </p:blipFill>
        <p:spPr>
          <a:xfrm>
            <a:off x="827640" y="4581000"/>
            <a:ext cx="1944000" cy="1591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W02"/>
          <p:cNvPicPr/>
          <p:nvPr/>
        </p:nvPicPr>
        <p:blipFill>
          <a:blip r:embed="rId2"/>
          <a:stretch/>
        </p:blipFill>
        <p:spPr>
          <a:xfrm>
            <a:off x="3852000" y="4581000"/>
            <a:ext cx="1823040" cy="1583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Картинка загружается..."/>
          <p:cNvPicPr/>
          <p:nvPr/>
        </p:nvPicPr>
        <p:blipFill>
          <a:blip r:embed="rId3"/>
          <a:stretch/>
        </p:blipFill>
        <p:spPr>
          <a:xfrm>
            <a:off x="6804360" y="4509000"/>
            <a:ext cx="188892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0" y="0"/>
            <a:ext cx="8892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3016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гласно классификации академика РАМН А.А. Воробьё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ctr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наиболее опасными средствами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биотерроризма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могут быть: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ус натуральной осп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будители чум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бирской язв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тулизма (токсины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моррагической лихорадки Марбург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уляреми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несуэльского энцефалита лошадей (ВЭЛ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п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лиоидоз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иппа, сыпного тиф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также возбудители бруцеллеза, японского энцефалита, жёлтой лихорадки, холеры, токсины столбняка, дифтерии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2" descr="http://mirbukashek.ru/wp-content/uploads/2008/11/strekoza.jpg"/>
          <p:cNvPicPr/>
          <p:nvPr/>
        </p:nvPicPr>
        <p:blipFill>
          <a:blip r:embed="rId1"/>
          <a:stretch/>
        </p:blipFill>
        <p:spPr>
          <a:xfrm>
            <a:off x="0" y="404640"/>
            <a:ext cx="2555280" cy="20685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Файл:Biohazard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692640"/>
            <a:ext cx="3151440" cy="28800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6"/>
          <p:cNvSpPr/>
          <p:nvPr/>
        </p:nvSpPr>
        <p:spPr>
          <a:xfrm>
            <a:off x="5292000" y="3645000"/>
            <a:ext cx="385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торожно. Биологическая опасность (Инфекционные вещест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Как пузырь машина с пеной заволакивает для венчаний"/>
          <p:cNvPicPr/>
          <p:nvPr/>
        </p:nvPicPr>
        <p:blipFill>
          <a:blip r:embed="rId1"/>
          <a:stretch/>
        </p:blipFill>
        <p:spPr>
          <a:xfrm>
            <a:off x="6804360" y="249300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"/>
          <p:cNvSpPr/>
          <p:nvPr/>
        </p:nvSpPr>
        <p:spPr>
          <a:xfrm>
            <a:off x="179640" y="0"/>
            <a:ext cx="878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сколько килограммов спор возбудителей сибирской язвы могут уничтожить такое же количество гражданского населения, как ядерная бомба, равная по мощности сброшенной на Хиросим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ными видами такого оружия являются бактерии, вирусы, риккетсии и грибки, а также продукты их жизнедеятельности - токсины. Поражение людей может происходить при попадании их через органы дыхания, желудочно-кишечный тракт, слизистые оболочки (рта, носа, глаз) и поврежденные кожные покровы. Наибольшую опасность представляет распыление бактериальных рецептур в виде аэроз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этом в воздухе образуется бактериальное обла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перемещаясь в направлении движения воздух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жет оседать на почву, воду, растения и в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меты, а также на кожные покровы людей и животны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ибольшую угрозу в качестве самостоятельного биологического оружия представляет собой возбудитель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бирской язв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Инкубационный (скрытый) период при ингаляционном пути поступлении возбудителя варьируют от 1 до 6 дней, а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ровень летальности при ингаляционной форме сибирской язвы колеблется от 87 до 95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179640" y="260640"/>
            <a:ext cx="89640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КАЗ Президента РФ от 14.06.2012 N 851 "О ПОРЯДКЕ УСТАНОВЛЕНИЯ УРОВНЕЙ ТЕРРОРИСТИЧЕСКОЙ ОПАСНОСТИ, ПРЕДУСМАТРИВАЮЩИХ ПРИНЯТИЕ ДОПОЛНИТЕЛЬНЫХ МЕР ПО ОБЕСПЕЧЕНИЮ БЕЗОПАСНОСТИ ЛИЧНОСТИ, ОБЩЕСТВА И ГОСУДАРСТВА 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"/>
          <p:cNvSpPr/>
          <p:nvPr/>
        </p:nvSpPr>
        <p:spPr>
          <a:xfrm>
            <a:off x="179640" y="2049120"/>
            <a:ext cx="8783640" cy="478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1d1d1d"/>
                </a:solidFill>
                <a:latin typeface="Arial"/>
                <a:ea typeface="Times New Roman"/>
              </a:rPr>
              <a:t>В целях своевременного информирования населения о возникновении угрозы террористического акта и организации деятельности по противодействию его совершению могут устанавливаться следующие уровни террористической опасности на отдельных участках территории Российской Федерации (объектах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230f9d"/>
                </a:solidFill>
                <a:latin typeface="Arial"/>
                <a:ea typeface="Times New Roman"/>
              </a:rPr>
              <a:t>а) повышенный (</a:t>
            </a:r>
            <a:r>
              <a:rPr b="1" lang="ru-RU" sz="2800" spc="-1" strike="noStrike">
                <a:solidFill>
                  <a:srgbClr val="230f9d"/>
                </a:solidFill>
                <a:latin typeface="Calibri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230f9d"/>
                </a:solidFill>
                <a:latin typeface="Arial"/>
                <a:ea typeface="Times New Roman"/>
              </a:rPr>
              <a:t>синий</a:t>
            </a:r>
            <a:r>
              <a:rPr b="1" lang="ru-RU" sz="2800" spc="-1" strike="noStrike">
                <a:solidFill>
                  <a:srgbClr val="230f9d"/>
                </a:solidFill>
                <a:latin typeface="Calibri"/>
                <a:ea typeface="Times New Roman"/>
              </a:rPr>
              <a:t>»</a:t>
            </a:r>
            <a:r>
              <a:rPr b="1" lang="ru-RU" sz="2800" spc="-1" strike="noStrike">
                <a:solidFill>
                  <a:srgbClr val="230f9d"/>
                </a:solidFill>
                <a:latin typeface="Arial"/>
                <a:ea typeface="Times New Roman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1d1d1d"/>
                </a:solidFill>
                <a:latin typeface="Arial"/>
                <a:ea typeface="Times New Roman"/>
              </a:rPr>
              <a:t>(информация о ТУ должна быть подтвержде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б) высокий (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жёлтый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»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d1d1d"/>
                </a:solidFill>
                <a:latin typeface="Arial"/>
                <a:ea typeface="Times New Roman"/>
              </a:rPr>
              <a:t>(информация о ТУ подтвержде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в) критический (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красный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1d1d1d"/>
                </a:solidFill>
                <a:latin typeface="Arial"/>
                <a:ea typeface="Times New Roman"/>
              </a:rPr>
              <a:t>(состоялся Т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6372360" y="3501000"/>
            <a:ext cx="27712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Не более 15 су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5220000" y="5733360"/>
            <a:ext cx="3923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ША – 5 цветов, во Франции – 4 цвета, в Великобритании – 5 уровней (без цве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251640" y="258480"/>
            <a:ext cx="8712720" cy="5881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мволы о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  <a:hlinkClick r:id="rId1"/>
              </a:rPr>
              <a:t>пасности в РФ</a:t>
            </a:r>
            <a:r>
              <a:rPr b="0" i="1" lang="ru-RU" sz="4000" spc="-1" strike="noStrike">
                <a:solidFill>
                  <a:srgbClr val="0000ff"/>
                </a:solidFill>
                <a:latin typeface="Arial"/>
                <a:hlinkClick r:id="rId2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Arial"/>
                <a:hlinkClick r:id="rId3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мер предупреждающего знака «Опас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диоактивные вещества или ионизирующее излуче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Российской Федерации существует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  <a:hlinkClick r:id="rId4"/>
              </a:rPr>
              <a:t>ГОСТ Р 12.4.026-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Цвета сигнальные, знаки безопасности и разметка сигнальная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авливающий назначение, правила применения, виды и исполн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ографическое изображение, размеры, технические требования и характеристики, методы испытаний знаков безопасности, в том числе и содержащих символы опасности. В соответствии с этим ГОСТ знаки безопасности — цветографическое изображение определенной геометрической формы с использованием сигнальных и контрастных цветов, графических символов и (или) поясняющих надписей, предназначенное для предупреждения людей о непосредственной или возможной опасности, запрещения, предписания или разрешения определенных действий, а также для информации о расположении объектов и средств, использование котор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лючает или снижает воздействие опасных и (или) вредных факторов. Знаки безопасности стандартизированны и приведены также в ранее действовавш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  <a:hlinkClick r:id="rId5"/>
              </a:rPr>
              <a:t>ГОСТ Р 12.4.02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СБТ «Цвета сигнальные, знаки безопасности и разметка сигнальн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http://bits.wikimedia.org/static-1.20wmf6/skins/common/images/magnify-clip.pn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5520" y="14400"/>
            <a:ext cx="142560" cy="104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W02"/>
          <p:cNvPicPr/>
          <p:nvPr/>
        </p:nvPicPr>
        <p:blipFill>
          <a:blip r:embed="rId1"/>
          <a:stretch/>
        </p:blipFill>
        <p:spPr>
          <a:xfrm>
            <a:off x="4932000" y="0"/>
            <a:ext cx="1691280" cy="14691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W03"/>
          <p:cNvPicPr/>
          <p:nvPr/>
        </p:nvPicPr>
        <p:blipFill>
          <a:blip r:embed="rId2"/>
          <a:stretch/>
        </p:blipFill>
        <p:spPr>
          <a:xfrm>
            <a:off x="827640" y="1340640"/>
            <a:ext cx="1728000" cy="1500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W05"/>
          <p:cNvPicPr/>
          <p:nvPr/>
        </p:nvPicPr>
        <p:blipFill>
          <a:blip r:embed="rId3"/>
          <a:stretch/>
        </p:blipFill>
        <p:spPr>
          <a:xfrm>
            <a:off x="6156000" y="1484640"/>
            <a:ext cx="1800000" cy="1539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W09"/>
          <p:cNvPicPr/>
          <p:nvPr/>
        </p:nvPicPr>
        <p:blipFill>
          <a:blip r:embed="rId4"/>
          <a:stretch/>
        </p:blipFill>
        <p:spPr>
          <a:xfrm>
            <a:off x="179640" y="0"/>
            <a:ext cx="1523520" cy="1323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W16"/>
          <p:cNvPicPr/>
          <p:nvPr/>
        </p:nvPicPr>
        <p:blipFill>
          <a:blip r:embed="rId5"/>
          <a:stretch/>
        </p:blipFill>
        <p:spPr>
          <a:xfrm>
            <a:off x="251640" y="3285000"/>
            <a:ext cx="1523520" cy="1323720"/>
          </a:xfrm>
          <a:prstGeom prst="rect">
            <a:avLst/>
          </a:prstGeom>
          <a:ln w="0">
            <a:noFill/>
          </a:ln>
        </p:spPr>
      </p:pic>
      <p:sp>
        <p:nvSpPr>
          <p:cNvPr id="247" name="TextBox 7"/>
          <p:cNvSpPr/>
          <p:nvPr/>
        </p:nvSpPr>
        <p:spPr>
          <a:xfrm>
            <a:off x="0" y="4653000"/>
            <a:ext cx="3563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торожно. Биологическая опасность (Инфекционные вещест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2" descr="W17"/>
          <p:cNvPicPr/>
          <p:nvPr/>
        </p:nvPicPr>
        <p:blipFill>
          <a:blip r:embed="rId6"/>
          <a:stretch/>
        </p:blipFill>
        <p:spPr>
          <a:xfrm>
            <a:off x="3852000" y="3861000"/>
            <a:ext cx="1523520" cy="1323720"/>
          </a:xfrm>
          <a:prstGeom prst="rect">
            <a:avLst/>
          </a:prstGeom>
          <a:ln w="0">
            <a:noFill/>
          </a:ln>
        </p:spPr>
      </p:pic>
      <p:sp>
        <p:nvSpPr>
          <p:cNvPr id="249" name="TextBox 9"/>
          <p:cNvSpPr/>
          <p:nvPr/>
        </p:nvSpPr>
        <p:spPr>
          <a:xfrm>
            <a:off x="5364000" y="4149000"/>
            <a:ext cx="3779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торожно. Вредные для здоровья аллергические ве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0"/>
          <p:cNvSpPr/>
          <p:nvPr/>
        </p:nvSpPr>
        <p:spPr>
          <a:xfrm>
            <a:off x="4572000" y="2997000"/>
            <a:ext cx="424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асно. Радиоактивные вещества или ионизирующие изл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1"/>
          <p:cNvSpPr/>
          <p:nvPr/>
        </p:nvSpPr>
        <p:spPr>
          <a:xfrm>
            <a:off x="0" y="2781000"/>
            <a:ext cx="410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асно. Ядовиты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4" descr="W04"/>
          <p:cNvPicPr/>
          <p:nvPr/>
        </p:nvPicPr>
        <p:blipFill>
          <a:blip r:embed="rId7"/>
          <a:stretch/>
        </p:blipFill>
        <p:spPr>
          <a:xfrm>
            <a:off x="2123640" y="5533920"/>
            <a:ext cx="1523520" cy="13237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3"/>
          <p:cNvSpPr/>
          <p:nvPr/>
        </p:nvSpPr>
        <p:spPr>
          <a:xfrm>
            <a:off x="3492000" y="6021360"/>
            <a:ext cx="381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асно. Едкие или коррозионные ве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4"/>
          <p:cNvSpPr/>
          <p:nvPr/>
        </p:nvSpPr>
        <p:spPr>
          <a:xfrm>
            <a:off x="6551640" y="47664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зрывоопас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5"/>
          <p:cNvSpPr/>
          <p:nvPr/>
        </p:nvSpPr>
        <p:spPr>
          <a:xfrm>
            <a:off x="1691640" y="260640"/>
            <a:ext cx="309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нимание опасность. Прочие 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2" descr="Файл:Hazard E.sv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9900720" y="836640"/>
            <a:ext cx="1511640" cy="1511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Файл:Hazard T.sv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9900720" y="3069000"/>
            <a:ext cx="1656000" cy="165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51640" y="404640"/>
            <a:ext cx="8892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соответствии с принятыми решениями Совещания от 13.11.03 г. приказами МЧС России утвержде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Типовой паспорт безопасности территорий субъектов Российской Федерации и муниципальных образований» 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Типовой паспорт безопасности опасного объекта»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251640" y="0"/>
            <a:ext cx="8434800" cy="65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03840" indent="-303840" algn="just">
              <a:lnSpc>
                <a:spcPct val="100000"/>
              </a:lnSpc>
              <a:spcBef>
                <a:spcPts val="780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900" spc="-1" strike="noStrike">
                <a:solidFill>
                  <a:srgbClr val="000000"/>
                </a:solidFill>
                <a:latin typeface="Calibri"/>
              </a:rPr>
              <a:t>Диверсионно-террористическая уязвимость объекта</a:t>
            </a: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 (ДТУ) – это степень несоответствия принятых на объекте мер защиты предполагаемой террористической угрозе, выраженная в процентах, относительных единицах (от 0 до 1) или в качественных понятиях: «неприемлемо высокая уязвимость», «высокая уязвимость», «средняя уязвимость», «низкая уязвимость».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03840" indent="0" algn="just">
              <a:lnSpc>
                <a:spcPct val="100000"/>
              </a:lnSpc>
              <a:spcBef>
                <a:spcPts val="780"/>
              </a:spcBef>
              <a:buNone/>
              <a:tabLst>
                <a:tab algn="l" pos="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03840" indent="-303840">
              <a:lnSpc>
                <a:spcPct val="100000"/>
              </a:lnSpc>
              <a:spcBef>
                <a:spcPts val="155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7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7800" spc="-1" strike="noStrike">
                <a:solidFill>
                  <a:srgbClr val="000000"/>
                </a:solidFill>
                <a:latin typeface="Calibri"/>
              </a:rPr>
              <a:t>ДТУ= 1 - ДТЗ</a:t>
            </a: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109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водятся 15 криминолого-криминалистических критерие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14200" y="1196640"/>
            <a:ext cx="89294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-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– частота встречаемости диверсионно-террористического средства и способа его примен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поражающая способность данного средства и способа его применения для незащищённых людей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поражающая способность данного средства и способа его применения для отдельного 3-5-этажного здания или аналогичного капитального сооруж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скрытных способов перемещения и доставки данного средства поражения к объекту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у данного средства поражения демаскирующих признаков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и состояние инженерной защиты объекта, возможность скрытного проникновения на объект с данным средством пораж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7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и состояние объектовых сил террористического противодейств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8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и состояние на объекте антитеррористических средств и досмотрового оборудова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9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и состояние объектовых антитеррористических инструктивно-методических разработок для персонал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0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состояние антитеррористической подготовки работающего персонала (определяется тестированием по определённой методике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1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отраслевой и ведомственный фактор (относимость объекта к объектам жизнеобеспечения, транспорта, связи, потенциально опасным и критически важным объектам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2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внутренний криминогенный фактор (степень криминализации и напряжённости социальных отношений внутри объекта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3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внешний криминогенный фактор (степень криминализации и напряжённости социальных отношений вокруг объекта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4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географический фактор (местонахождения объекта по отношению к мегаполисам, большим городам и очагам внутреннего и международного терроризма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5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временной фактор (уровень террористической угрозы в стране в данный промежуток времени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0072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2000"/>
          </a:bodyPr>
          <a:p>
            <a:pPr indent="0" algn="just">
              <a:lnSpc>
                <a:spcPct val="100000"/>
              </a:lnSpc>
              <a:buNone/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Рейтинговая оценка значимости критериев для различных моделей расчёта диверсионно-террористической уязвимости (ДТУ)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3" name="Содержимое 3"/>
          <p:cNvGraphicFramePr/>
          <p:nvPr/>
        </p:nvGraphicFramePr>
        <p:xfrm>
          <a:off x="0" y="260640"/>
          <a:ext cx="9143640" cy="64285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37304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Модель расчёта ДТ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Оценка значимости критериев (баллы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1388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Базовая модель расчё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(модель «БМ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8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-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1388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птимистическая модель расчёта (модель «ОМ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-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1577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ессимистическая модель расчёта (модель «ПМ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57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16000"/>
          </a:bodyPr>
          <a:p>
            <a:pPr indent="0" algn="ctr">
              <a:lnSpc>
                <a:spcPct val="100000"/>
              </a:lnSpc>
              <a:buNone/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щие рекомендации по ранжированию критериев 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5" name="Содержимое 5"/>
          <p:cNvGraphicFramePr/>
          <p:nvPr/>
        </p:nvGraphicFramePr>
        <p:xfrm>
          <a:off x="142920" y="0"/>
          <a:ext cx="8715240" cy="6725160"/>
        </p:xfrm>
        <a:graphic>
          <a:graphicData uri="http://schemas.openxmlformats.org/drawingml/2006/table">
            <a:tbl>
              <a:tblPr/>
              <a:tblGrid>
                <a:gridCol w="983520"/>
                <a:gridCol w="2502360"/>
                <a:gridCol w="1742760"/>
                <a:gridCol w="1742760"/>
                <a:gridCol w="1742760"/>
              </a:tblGrid>
              <a:tr h="36648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Крите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Наименование крите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Рейтинг значимости критерия для подсчёта Д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-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Частота встречаемости диверсионно-террористического средства и способа его примен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Известны факты применения для данного вида объек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Зафиксировано несколько случаев в данном регио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рименялось в данном регионе (1-2 случая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-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оражающая способность данного средства и способа его применения для незащищённых люд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 радиус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более  100 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 радиус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0-100м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 радиус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до 50 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-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оражающая способность данного средства и способа его применения для отдельного 3-5-этажного здания или аналогичного капитального стро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Уничтожение здания или сооруж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Разрушение здания или сооруж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овреждение здания или сооруж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скрытных способов перемещения и доставки средства поражения к объект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Много способ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3-4 способ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1-2 способ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у средства поражения демаскирующих свойств и признак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ство обнаруживается обученными специалистами с использованием спецтехн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ризнаки нужно знать, средство обнаруживается проинструктированным персонало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ризнаки очевидны, средство обнаруживается визуа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и состояние инженерной защиты объекта, возможность скрытного проникновения на объект с данным средство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Инженерной защиты н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Территория ограждена, есть вахтёры на входах и ночные сторож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круглосуточная охрана периметра, системы видеонаблюдения, СКУ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и состояние объектовых сил противодейств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обственных сил н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обственные силы имеются, но их готовность и профессионализм не на должном уров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обственные силы укомплектованы, обучены и находятся в постоянной готовно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8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на объекте антитеррористических средств и досмотрового оборуд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обственных средств н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Имеются отдельные вид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комплекты сред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9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и состояние объектовых антитеррористических инструктивно-методических разработок для персон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Документация отсутству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памятки и общие рекоменда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пакет адресных инструкций руководству и персоналу для типовых случае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остояние антитеррористической подготовки работающего персонала (определяется тестированием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еудовлетворительн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Удовлетворительн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Хорошее и отличн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1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траслевой фактор (относимость объекта к объектам повышенного риск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 числе особо важных охраняемых объек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 числе потенциально опасных объек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бъект не относится к типичным объектам террористических устремле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2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нутренний криминогенный фактор (степень криминализации внутри объектовых отношений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ысокая (есть преступления и латентная преступность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няя (есть конфликты и правонарушения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изкая (есть только сложные межличностные отношения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3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нешний криминогенны фактор (степень криминализации отношений вокруг объект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ысокая (есть организованные преступные группировки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няя (есть преступления в сфере экономических отношений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изкая (есть правонарушения и бытовая преступность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4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Географический фактор (местонахождение объекта по отношению к мегаполисам, большим городам и очагам терроризм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бъект внутри зоны рис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бъект в пограничной зо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бъект за пределами зоны рис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5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ременной фактор (уровень террористической угрозы в стране в данный промежуток времени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323640" y="260640"/>
            <a:ext cx="8424720" cy="70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ОПРОСЫ ЛЕ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Актуальность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Термины и определения. Понятие технологического террор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иды радиоактивных, взрывчатых, химических и биологических препаратов, потенциально пригодных для проведения террористических а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етодика оценки диверсионно-террористической уязвимости критически важных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Заклю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89272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комендации по нормированию Д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91960" indent="-291960" algn="just">
              <a:lnSpc>
                <a:spcPct val="100000"/>
              </a:lnSpc>
              <a:spcBef>
                <a:spcPts val="58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уммарные бальные оценки значимости критериев в разных моделях расчёта варьируются в пределах 150 – 45 (пессимистическая модель), 120 – 0 (базовая модель) и 75 – 0 (оптимистическая модель). Нормировочный множитель во всех моделях избран единым и равен 1/150. При этом бальная оценка ДТУ определяется безразмерным числом, находящимся в пределах от нуля до единицы. Нулевому значению соответствует полная террористическая защищённость (неуязвимость), единице – полная незащищённость (полная террористическая уязвимость) объекта по отношению к конкретной террористической угрозе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91960"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 algn="just">
              <a:lnSpc>
                <a:spcPct val="100000"/>
              </a:lnSpc>
              <a:spcBef>
                <a:spcPts val="58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пределение ДТУ к каждому виду угроз осуществляется путём экспертной оценки значимости критериев от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1-К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15-К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при избранной расчётной модели. Экспертная оценка может выполняться как индивидуально, так и группой специалист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иболее вероятные 12 ТУ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9143640" cy="59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по телефону;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демонстративная закладка муляжа ВВ или ВУ;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скрытая закладка ВУ на объекте и его взрыв (мощностью до 1 кт);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взрыва припаркованного возле объекта автомобиля с химическим ВВ (до 50 кг тротила)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взрыва химического ВВ в движущемся к объекту автомобиле с террористом-смертником (более 500 кг тротила)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подбрасывание закамуфлированных под бытовые предметы мин-ловушек (до 0,5 кг тротила);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проникновение на объект террориста-смертника с ВУ (до 10 кг тротила)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засылка конкретному адресату ВВ в почтовом отправлении (до 100 г тротила);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захват и удержание заложников с использованием оружия и ВУ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с применением радиоактивных веществ (изотопные гамма-источники)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с применением токсических химикатов (ТУ заражения источников водоснабжения ТХ)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с применением биологических веществ (засылка почтового отправления с биореагентами). 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364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имические, биологические и радиологические 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1" name="Содержимое 6"/>
          <p:cNvGraphicFramePr/>
          <p:nvPr/>
        </p:nvGraphicFramePr>
        <p:xfrm>
          <a:off x="0" y="764640"/>
          <a:ext cx="9143640" cy="5231520"/>
        </p:xfrm>
        <a:graphic>
          <a:graphicData uri="http://schemas.openxmlformats.org/drawingml/2006/table">
            <a:tbl>
              <a:tblPr/>
              <a:tblGrid>
                <a:gridCol w="357120"/>
                <a:gridCol w="1500120"/>
                <a:gridCol w="2643120"/>
                <a:gridCol w="4643280"/>
              </a:tblGrid>
              <a:tr h="343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ид Т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Место, да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Характерис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У с химическими 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.Грозный,  2000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дрыв ёмкостей с хлор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7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У с химическими ОВ (яды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Чеченская республика, 2002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бнаружение на базе в  больших количествах мышьяка и сулемы в пакетах с инструкциями по применению в 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иологические угро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ША, 1984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Заражение пищи биологическим агентом - сальмонелло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иологические угро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ША, 2001 г. (и некоторые другие страны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Злоумышленная рассылка в почтовых отправлениях белого порошка со спорами бактерий сибирской язвы (штаммы-возбудител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Ядерный террориз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Литва, 1994 г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д угрозой взорвать Игналинскую АЭС преступная группировка потребовала отмены смертного приговора своему главарю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4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адиологические угро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 Европе 70 случаев в год, в США 50 случаев в год, с начала 90-х годов в Грузии было обнаружено 300 "бесхозных« радиоактивных источников, в России 10 случаев в г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опажа, утеря, хищения Р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 США, начиная с 1996 года, было зарегистрировано 850 случаев пропажи радиоактивных материалов, обнаружить которые так и не удалось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80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еррористическая радиологическая угро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 ноябре 1995 г. в Измайловском парке в Москве был обнаружен и извлечен из земли контейнер с цезием-137, заложенный чеченскими экстремистам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Это была первая реальная попытка осуществления радиационного терроризма. Заявление Д. Дудаева: «То, что мы продемонстрировали в Измайловском парке всему мировому сообществу и Москве, — это мизерная доля тех радиоактивных веществ, которые мы имеем»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4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У с применением боевых 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Япония, 1994-1995 г.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елигиозной организацией «Аум-Синрике» в подпольной лаборатории было синтезировано ОВ нервно-паралитического действия «зарин» и применено с автомобиля на улицах города и в Токийском метр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240" cy="14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000"/>
          </a:bodyPr>
          <a:p>
            <a:pPr indent="0" algn="just">
              <a:lnSpc>
                <a:spcPct val="100000"/>
              </a:lnSpc>
              <a:buNone/>
            </a:pPr>
            <a:br>
              <a:rPr sz="1800"/>
            </a:b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3" name="Содержимое 4"/>
          <p:cNvGraphicFramePr/>
          <p:nvPr/>
        </p:nvGraphicFramePr>
        <p:xfrm>
          <a:off x="285840" y="714240"/>
          <a:ext cx="8643600" cy="5836680"/>
        </p:xfrm>
        <a:graphic>
          <a:graphicData uri="http://schemas.openxmlformats.org/drawingml/2006/table">
            <a:tbl>
              <a:tblPr/>
              <a:tblGrid>
                <a:gridCol w="2160720"/>
                <a:gridCol w="2160720"/>
                <a:gridCol w="2160720"/>
                <a:gridCol w="2160720"/>
              </a:tblGrid>
              <a:tr h="31824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ритерий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Оценка значимости критерия, 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Базовая модель «Б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птимистическая модель «О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ессимистическая модель «П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8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9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1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2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3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4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5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умма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ДТУ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1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ДТУ, относительные еди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0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0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0,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274" name="TextBox 5"/>
          <p:cNvSpPr/>
          <p:nvPr/>
        </p:nvSpPr>
        <p:spPr>
          <a:xfrm>
            <a:off x="0" y="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мер расчёта ДТУ автобуса для случая скрытой закладки ВВ в сал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5"/>
          <p:cNvSpPr/>
          <p:nvPr/>
        </p:nvSpPr>
        <p:spPr>
          <a:xfrm>
            <a:off x="539640" y="260280"/>
            <a:ext cx="8064000" cy="6478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ые вы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пасность РХБ терроризма на территории РФ существует. Из них наиболее масштабный по последствиям, трудности обнаружения и ликвидации последствий – биотерроризм. Предпосылками для его осуществления является наличие сотен предприятий, работающих с возбудителями патогенных микроорганизмов, не исключен также нелегальный ввоз возбудителей рецептур БПА и устройств для их применения  из-за рубеж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 Для поражения нескольких сот или тысяч людей на открытой местности или внутри сооружений (через систему вентиляции) достаточное количество рецептур БПА, в пересчете на ранее разрабатываемые боевые ,– несколько грамм, или при получении их в подпольных лабораториях – несколько ли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. Ликвидация последствий биотерроризма сопряжена с особыми трудностями по установлению зон опасного заражения местности, сооружений и объектов и с высокими затратами на проведение дезинфекционных работ. Одной из главных задач объективной оценки биологической обстановки является экспериментальное установление коэффициента или долы отрыва высевшего тонкодисперсного аэрозоля БПА от поверхнос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. Для предупреждения биотерроризма необходимы меры: введение ограничений и контроль лиц (организаций), работающих  с опасными возбудителями заболеваний, а также приобретающих (работающих с) микробиологическое оборудование, используемое для наработки биокультур (бактерий, вирусов, риккетсий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F:\фото отм\19371in.png"/>
          <p:cNvPicPr/>
          <p:nvPr/>
        </p:nvPicPr>
        <p:blipFill>
          <a:blip r:embed="rId1"/>
          <a:stretch/>
        </p:blipFill>
        <p:spPr>
          <a:xfrm>
            <a:off x="0" y="404640"/>
            <a:ext cx="2428560" cy="2421000"/>
          </a:xfrm>
          <a:prstGeom prst="rect">
            <a:avLst/>
          </a:prstGeom>
          <a:ln w="9525">
            <a:noFill/>
          </a:ln>
        </p:spPr>
      </p:pic>
      <p:pic>
        <p:nvPicPr>
          <p:cNvPr id="277" name="Picture 3" descr="C:\Users\Public\Pictures\pict.jpg"/>
          <p:cNvPicPr/>
          <p:nvPr/>
        </p:nvPicPr>
        <p:blipFill>
          <a:blip r:embed="rId2"/>
          <a:stretch/>
        </p:blipFill>
        <p:spPr>
          <a:xfrm>
            <a:off x="2571840" y="571320"/>
            <a:ext cx="2889360" cy="2166480"/>
          </a:xfrm>
          <a:prstGeom prst="rect">
            <a:avLst/>
          </a:prstGeom>
          <a:ln w="9525">
            <a:noFill/>
          </a:ln>
        </p:spPr>
      </p:pic>
      <p:sp>
        <p:nvSpPr>
          <p:cNvPr id="278" name="TextBox 4"/>
          <p:cNvSpPr/>
          <p:nvPr/>
        </p:nvSpPr>
        <p:spPr>
          <a:xfrm>
            <a:off x="179280" y="4941000"/>
            <a:ext cx="896436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М –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рем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граничение конституционных прав  граждан по судебному реш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НЕ ПОДЛЕЖАТ ОГРАНИЧЕНИЮ ПРАВА И СВОБОДЫ ст. 20,21, 23(1), 24,28,34(1),40(1),46-54 Конституции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142920" y="2857320"/>
            <a:ext cx="62146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8800" spc="-1" strike="noStrike">
                <a:solidFill>
                  <a:srgbClr val="1f497d"/>
                </a:solidFill>
                <a:latin typeface="Verdana"/>
              </a:rPr>
              <a:t>180суто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C:\Documents and Settings\Kirillov\Мои документы\Мои рисунки\фото отм\отм\sud.jpg"/>
          <p:cNvPicPr/>
          <p:nvPr/>
        </p:nvPicPr>
        <p:blipFill>
          <a:blip r:embed="rId3"/>
          <a:stretch/>
        </p:blipFill>
        <p:spPr>
          <a:xfrm>
            <a:off x="6588000" y="3284640"/>
            <a:ext cx="2231640" cy="1671120"/>
          </a:xfrm>
          <a:prstGeom prst="rect">
            <a:avLst/>
          </a:prstGeom>
          <a:ln w="9525">
            <a:noFill/>
          </a:ln>
        </p:spPr>
      </p:pic>
      <p:sp>
        <p:nvSpPr>
          <p:cNvPr id="281" name="Прямоугольник 7"/>
          <p:cNvSpPr/>
          <p:nvPr/>
        </p:nvSpPr>
        <p:spPr>
          <a:xfrm>
            <a:off x="0" y="214200"/>
            <a:ext cx="9143640" cy="213840"/>
          </a:xfrm>
          <a:prstGeom prst="rect">
            <a:avLst/>
          </a:prstGeom>
          <a:gradFill rotWithShape="0">
            <a:gsLst>
              <a:gs pos="0">
                <a:srgbClr val="10243e"/>
              </a:gs>
              <a:gs pos="100000">
                <a:srgbClr val="e0e8f5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82" name="Picture 4" descr="orig ф "/>
          <p:cNvPicPr/>
          <p:nvPr/>
        </p:nvPicPr>
        <p:blipFill>
          <a:blip r:embed="rId4"/>
          <a:stretch/>
        </p:blipFill>
        <p:spPr>
          <a:xfrm>
            <a:off x="5786280" y="500040"/>
            <a:ext cx="3142800" cy="2499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9">
                                  <p:stCondLst>
                                    <p:cond delay="67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Documents and Settings\Kirillov\Мои документы\Мои рисунки\фото отм\000229277_000232954_sizus600.jpg"/>
          <p:cNvPicPr/>
          <p:nvPr/>
        </p:nvPicPr>
        <p:blipFill>
          <a:blip r:embed="rId1"/>
          <a:stretch/>
        </p:blipFill>
        <p:spPr>
          <a:xfrm>
            <a:off x="214200" y="5072040"/>
            <a:ext cx="2428560" cy="1785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C:\Documents and Settings\Kirillov\Мои документы\Мои рисунки\фото отм\1333343990853_bulletin.jpg"/>
          <p:cNvPicPr/>
          <p:nvPr/>
        </p:nvPicPr>
        <p:blipFill>
          <a:blip r:embed="rId2"/>
          <a:stretch/>
        </p:blipFill>
        <p:spPr>
          <a:xfrm>
            <a:off x="0" y="4143240"/>
            <a:ext cx="2214360" cy="1510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C:\Users\Public\Pictures\simple_img_1.jpg"/>
          <p:cNvPicPr/>
          <p:nvPr/>
        </p:nvPicPr>
        <p:blipFill>
          <a:blip r:embed="rId3"/>
          <a:stretch/>
        </p:blipFill>
        <p:spPr>
          <a:xfrm>
            <a:off x="4214880" y="2643120"/>
            <a:ext cx="2273040" cy="1453680"/>
          </a:xfrm>
          <a:prstGeom prst="rect">
            <a:avLst/>
          </a:prstGeom>
          <a:ln w="9525">
            <a:noFill/>
          </a:ln>
        </p:spPr>
      </p:pic>
      <p:pic>
        <p:nvPicPr>
          <p:cNvPr id="286" name="Picture 2" descr="C:\Users\Public\Pictures\435347422-9382-thickbox.jpg"/>
          <p:cNvPicPr/>
          <p:nvPr/>
        </p:nvPicPr>
        <p:blipFill>
          <a:blip r:embed="rId4"/>
          <a:stretch/>
        </p:blipFill>
        <p:spPr>
          <a:xfrm>
            <a:off x="3071880" y="2500200"/>
            <a:ext cx="1317240" cy="914040"/>
          </a:xfrm>
          <a:prstGeom prst="rect">
            <a:avLst/>
          </a:prstGeom>
          <a:ln w="9525">
            <a:noFill/>
          </a:ln>
        </p:spPr>
      </p:pic>
      <p:pic>
        <p:nvPicPr>
          <p:cNvPr id="287" name="Picture 2" descr="C:\Documents and Settings\Kirillov\Мои документы\Мои рисунки\фото отм\отм\1291489791_stol2.jpg"/>
          <p:cNvPicPr/>
          <p:nvPr/>
        </p:nvPicPr>
        <p:blipFill>
          <a:blip r:embed="rId5"/>
          <a:stretch/>
        </p:blipFill>
        <p:spPr>
          <a:xfrm>
            <a:off x="6715080" y="2500200"/>
            <a:ext cx="2202480" cy="1639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C:\Documents and Settings\Kirillov\Мои документы\Мои рисунки\фото отм\отм\561_1_m.jpg"/>
          <p:cNvPicPr/>
          <p:nvPr/>
        </p:nvPicPr>
        <p:blipFill>
          <a:blip r:embed="rId6"/>
          <a:stretch/>
        </p:blipFill>
        <p:spPr>
          <a:xfrm>
            <a:off x="0" y="2357280"/>
            <a:ext cx="2575800" cy="1785600"/>
          </a:xfrm>
          <a:prstGeom prst="rect">
            <a:avLst/>
          </a:prstGeom>
          <a:ln w="0">
            <a:noFill/>
          </a:ln>
        </p:spPr>
      </p:pic>
      <p:sp>
        <p:nvSpPr>
          <p:cNvPr id="289" name="TextBox 8"/>
          <p:cNvSpPr/>
          <p:nvPr/>
        </p:nvSpPr>
        <p:spPr>
          <a:xfrm>
            <a:off x="0" y="3810960"/>
            <a:ext cx="892944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9600" spc="-1" strike="noStrike">
                <a:solidFill>
                  <a:srgbClr val="558ed5"/>
                </a:solidFill>
                <a:latin typeface="Calibri"/>
              </a:rPr>
              <a:t>Внимание-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9600" spc="-1" strike="noStrike">
                <a:solidFill>
                  <a:srgbClr val="558ed5"/>
                </a:solidFill>
                <a:latin typeface="Calibri"/>
              </a:rPr>
              <a:t>СТС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2"/>
          <p:cNvSpPr/>
          <p:nvPr/>
        </p:nvSpPr>
        <p:spPr>
          <a:xfrm>
            <a:off x="214200" y="500040"/>
            <a:ext cx="814356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тановление КС от 31.03.2011 г. № 3-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делу о проверке конституционности ч.3 ст.138 УК РФ. ч.3 ст.1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 РФ: «Незаконное производство, сбыт или приобрет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(без цели сбыта!)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С, предназначенных для неглас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учения информации, - …лишением свободы на срок до трёх ле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C:\Documents and Settings\Kirillov\Мои документы\Мои рисунки\фото отм\turma.jpg"/>
          <p:cNvPicPr/>
          <p:nvPr/>
        </p:nvPicPr>
        <p:blipFill>
          <a:blip r:embed="rId7"/>
          <a:stretch/>
        </p:blipFill>
        <p:spPr>
          <a:xfrm>
            <a:off x="7215120" y="928800"/>
            <a:ext cx="1761840" cy="1213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C:\Documents and Settings\Kirillov\Мои документы\Мои рисунки\фото отм\отм\750x1000_ut000022734_1.jpg"/>
          <p:cNvPicPr/>
          <p:nvPr/>
        </p:nvPicPr>
        <p:blipFill>
          <a:blip r:embed="rId8"/>
          <a:stretch/>
        </p:blipFill>
        <p:spPr>
          <a:xfrm>
            <a:off x="7184520" y="4929120"/>
            <a:ext cx="1959120" cy="19285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C:\Documents and Settings\Kirillov\Мои документы\Мои рисунки\фото отм\sonyericsson_xperia_mini_pro_39461d.jpg"/>
          <p:cNvPicPr/>
          <p:nvPr/>
        </p:nvPicPr>
        <p:blipFill>
          <a:blip r:embed="rId9"/>
          <a:stretch/>
        </p:blipFill>
        <p:spPr>
          <a:xfrm>
            <a:off x="7572240" y="5072040"/>
            <a:ext cx="499680" cy="838080"/>
          </a:xfrm>
          <a:prstGeom prst="rect">
            <a:avLst/>
          </a:prstGeom>
          <a:ln w="0">
            <a:noFill/>
          </a:ln>
        </p:spPr>
      </p:pic>
      <p:sp>
        <p:nvSpPr>
          <p:cNvPr id="294" name="Стрелка вниз 11"/>
          <p:cNvSpPr/>
          <p:nvPr/>
        </p:nvSpPr>
        <p:spPr>
          <a:xfrm>
            <a:off x="7572240" y="4643280"/>
            <a:ext cx="484200" cy="549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5" name="Прямоугольник 15"/>
          <p:cNvSpPr/>
          <p:nvPr/>
        </p:nvSpPr>
        <p:spPr>
          <a:xfrm>
            <a:off x="0" y="214200"/>
            <a:ext cx="9143640" cy="213840"/>
          </a:xfrm>
          <a:prstGeom prst="rect">
            <a:avLst/>
          </a:prstGeom>
          <a:gradFill rotWithShape="0">
            <a:gsLst>
              <a:gs pos="0">
                <a:srgbClr val="10243e"/>
              </a:gs>
              <a:gs pos="100000">
                <a:srgbClr val="e0e8f5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96" name="Picture 4" descr="C:\Users\Public\Pictures\i.jpg"/>
          <p:cNvPicPr/>
          <p:nvPr/>
        </p:nvPicPr>
        <p:blipFill>
          <a:blip r:embed="rId10"/>
          <a:stretch/>
        </p:blipFill>
        <p:spPr>
          <a:xfrm>
            <a:off x="6000840" y="5500800"/>
            <a:ext cx="1052280" cy="1052280"/>
          </a:xfrm>
          <a:prstGeom prst="rect">
            <a:avLst/>
          </a:prstGeom>
          <a:ln w="9525">
            <a:noFill/>
          </a:ln>
        </p:spPr>
      </p:pic>
    </p:spTree>
  </p:cSld>
  <p:transition spd="slow" advTm="8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2"/>
          <p:cNvSpPr/>
          <p:nvPr/>
        </p:nvSpPr>
        <p:spPr>
          <a:xfrm>
            <a:off x="2357280" y="1785960"/>
            <a:ext cx="335736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ИИ-2 11 Центра ФСБ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центр судебно-медицинских и криминалистических экспертиз Минобороны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Экспертно-криминалист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ГУВД Моск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2 лаборатории Миню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гаринский районный суд г. Москвы «Российская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азета» от 09.02.2010 г. «Пятиминутка правды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4"/>
          <p:cNvSpPr/>
          <p:nvPr/>
        </p:nvSpPr>
        <p:spPr>
          <a:xfrm>
            <a:off x="0" y="4509000"/>
            <a:ext cx="8572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т. 49 Конституции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. Обвиняемый не обязан доказывать свою невино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C:\Documents and Settings\Kirillov\Мои документы\Мои рисунки\фото отм\229788.jpg"/>
          <p:cNvPicPr/>
          <p:nvPr/>
        </p:nvPicPr>
        <p:blipFill>
          <a:blip r:embed="rId1"/>
          <a:stretch/>
        </p:blipFill>
        <p:spPr>
          <a:xfrm>
            <a:off x="5715000" y="1857240"/>
            <a:ext cx="2999880" cy="2615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C:\Documents and Settings\Kirillov\Мои документы\Мои рисунки\фото отм\programma_1.jpg"/>
          <p:cNvPicPr/>
          <p:nvPr/>
        </p:nvPicPr>
        <p:blipFill>
          <a:blip r:embed="rId2"/>
          <a:stretch/>
        </p:blipFill>
        <p:spPr>
          <a:xfrm>
            <a:off x="142920" y="2000160"/>
            <a:ext cx="2285640" cy="21513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32" descr="Знак гиф"/>
          <p:cNvPicPr/>
          <p:nvPr/>
        </p:nvPicPr>
        <p:blipFill>
          <a:blip r:embed="rId3"/>
          <a:stretch/>
        </p:blipFill>
        <p:spPr>
          <a:xfrm>
            <a:off x="0" y="1785960"/>
            <a:ext cx="2428560" cy="2428560"/>
          </a:xfrm>
          <a:prstGeom prst="rect">
            <a:avLst/>
          </a:prstGeom>
          <a:ln w="9525">
            <a:noFill/>
          </a:ln>
        </p:spPr>
      </p:pic>
      <p:sp>
        <p:nvSpPr>
          <p:cNvPr id="302" name="Прямоугольник 8"/>
          <p:cNvSpPr/>
          <p:nvPr/>
        </p:nvSpPr>
        <p:spPr>
          <a:xfrm>
            <a:off x="0" y="214200"/>
            <a:ext cx="9143640" cy="213840"/>
          </a:xfrm>
          <a:prstGeom prst="rect">
            <a:avLst/>
          </a:prstGeom>
          <a:gradFill rotWithShape="0">
            <a:gsLst>
              <a:gs pos="0">
                <a:srgbClr val="10243e"/>
              </a:gs>
              <a:gs pos="100000">
                <a:srgbClr val="e0e8f5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3" name="Заголовок 1"/>
          <p:cNvSpPr/>
          <p:nvPr/>
        </p:nvSpPr>
        <p:spPr>
          <a:xfrm>
            <a:off x="0" y="714240"/>
            <a:ext cx="9143640" cy="6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НТРЫ ПСИХОФИЗИОЛОГИЧЕСКОЙ ЭКСПЕРТИ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10"/>
          <p:cNvSpPr/>
          <p:nvPr/>
        </p:nvSpPr>
        <p:spPr>
          <a:xfrm>
            <a:off x="0" y="5445360"/>
            <a:ext cx="9143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ША в СУДЕ с 1993 года, ФБР и ЦРУ с 1947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уде Польша, Япо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ССР в ОРД с 1975 г. до 1991 г. только КГБ и ГРУ. Российский «Диагноз» 4500 у.е., в США – 11000 у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5723E-006 C 0.00364 0.00648 0.00503 0.00763 0.00955 0.00463 C 0.0092 0.0007 0.01007 -0.00462 0.0085 -0.0074 C 0.00816 -0.00763 0.00069 -0.003 3.61111E-006 -0.00231 C -0.00382 0.00278 -0.00643 0.00879 -0.01077 0.0118 C -0.01198 0.0111 -0.01372 0.01156 -0.01424 0.00925 C -0.01563 0.00347 -0.01077 -0.00092 -0.00955 -0.00231 C -0.004 0.00463 -0.00295 0.00486 0.00364 0.00232 C 0.0033 -0.00092 0.00382 -0.00555 0.0026 -0.0074 C -0.00209 -0.01364 -0.0033 0.01341 -0.00348 0.01411 C -0.00816 0.0044 -0.00799 -0.00531 -0.00122 -0.00971 C 0.00208 0.00925 -0.00122 0.00532 0.0085 0.00232 C 0.00034 -0.00323 0.00104 0.00856 3.61111E-006 0.02128 C -0.00573 0.01734 -0.00521 0.0155 -0.00348 0.00463 C -0.00157 0.00532 0.00069 0.00532 0.0026 0.00694 C 0.00902 0.01272 -0.00052 0.0148 0.00955 0.00925 C 0.0118 -0.00208 0.01059 -0.0037 0.00486 -3.75723E-006 C 0.00364 0.00232 0.00277 0.00602 0.00121 0.00694 C -0.00087 0.00833 -0.00504 0.0007 -0.00348 -0.00231 C -0.00261 -0.00416 -0.00122 -0.00092 3.61111E-006 -3.75723E-006 Z">
                                      <p:cBhvr>
                                        <p:cTn id="20" dur="6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99640" y="6021360"/>
            <a:ext cx="89643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Прямоугольник 2"/>
          <p:cNvSpPr/>
          <p:nvPr/>
        </p:nvSpPr>
        <p:spPr>
          <a:xfrm>
            <a:off x="251640" y="260640"/>
            <a:ext cx="8892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4" descr="W03"/>
          <p:cNvPicPr/>
          <p:nvPr/>
        </p:nvPicPr>
        <p:blipFill>
          <a:blip r:embed="rId1"/>
          <a:stretch/>
        </p:blipFill>
        <p:spPr>
          <a:xfrm>
            <a:off x="6948360" y="4725000"/>
            <a:ext cx="1728000" cy="1500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79640" y="-115560"/>
            <a:ext cx="8712720" cy="6855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-14112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рроризм технологический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или угроза использования ядерного, химического и биологического оружия, радиоактивных, высокотоксичных химических и биологических вещест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акже захват или попытки захвата экстремистами ядерных и иных объектов, представляющих повышенную опасность для жизни и здоровья людей, ради достижения целей политического или материального харак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964000" cy="61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ритически важный объект</a:t>
            </a: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Symbol"/>
              </a:rPr>
              <a:t>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кт, нарушение или прекращение функционирования которого приводит на длительный период к потере управления, разрушению инфраструктуры, необратимому негативному изменению или разрушению экономики страны, субъекта или крупной административно-территориальной единицы, или существенному ухудшению безопасности жизнедеятельности населения, проживающего на этой территор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260640"/>
            <a:ext cx="9143640" cy="64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ррористическая угроз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</a:rPr>
              <a:t>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то один из возможных способов совершения террористического а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рроризм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</a:rPr>
              <a:t>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деология насилия и практика воздействия на принятие решения органами государственной власти, органами местного самоуправления или международными организациями, связанные с устрашением населения и (или) иными формами противоправных насильственных действ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ррористический а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</a:rPr>
              <a:t>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вершение, взрыва, поджога или иных действий, связанных с устрашением населения и создающих опасность гибели человека, причинения значительного имущественного ущерба либо наступления экологической катастрофы или иных особо тяжких последствий, в целях противоправного воздействия на принятие решения органами государственной власти, органами местного самоуправления или международными организациями, а также угроза совершения указанных действий в тех же цел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79640" y="0"/>
            <a:ext cx="896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Calibri"/>
              </a:rPr>
              <a:t>Количество объектов высокой потенциальной опасности в РФ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дерный военный комплекс           1 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дерный гражданский комплекс   8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имический комплекс                       3 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никальные инженерные комплексы (плотины, дамбы)                                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аллургический комплекс           1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гистральные трубопроводы240 (тыс. к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анспортный комплекс                    30 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10" descr="Файл:Achtung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21600" y="5174280"/>
            <a:ext cx="1922040" cy="1683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W09"/>
          <p:cNvPicPr/>
          <p:nvPr/>
        </p:nvPicPr>
        <p:blipFill>
          <a:blip r:embed="rId3"/>
          <a:stretch/>
        </p:blipFill>
        <p:spPr>
          <a:xfrm>
            <a:off x="498600" y="5373360"/>
            <a:ext cx="1708920" cy="14842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5"/>
          <p:cNvSpPr/>
          <p:nvPr/>
        </p:nvSpPr>
        <p:spPr>
          <a:xfrm>
            <a:off x="2051640" y="5805360"/>
            <a:ext cx="309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нимание опасность. Прочие 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51640" y="0"/>
            <a:ext cx="8892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олее половин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селения РФ проживает в зонах возможного действия поражающих и вредных факторов ЧС. Зоны возможного действия поражающих и вредных факторов ЧС составляют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2%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ее территор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ибольшая средняя плотность населения в зонах возможного поражения при ЧС наблюдается в Центральном и Приволжско-Уральском федеральных округах. В этих же округах сосредоточено и наибольшее количество потенциально опасных объект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260640"/>
            <a:ext cx="896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marL="288720" indent="0" algn="just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0" i="1" lang="ru-RU" sz="4600" spc="-1" strike="noStrike">
                <a:solidFill>
                  <a:srgbClr val="000000"/>
                </a:solidFill>
                <a:latin typeface="Calibri"/>
              </a:rPr>
              <a:t>28% россиян живут в зонах возможного химического заражения. «Главные очаги» его – базы хранения ОВ.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0" algn="just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Таковых на территории России семь: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0" algn="just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пос. Горный (Саратовская область),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пос. Леонидовка (Пензенская область)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пос. Марадыковский (Кировская область),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г. Щучье (Курганская область)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г. Почеп (Брянская облаг.сть),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г. Камбарка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пос. Кизнер в Удмуртии.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0" algn="just">
              <a:lnSpc>
                <a:spcPct val="100000"/>
              </a:lnSpc>
              <a:spcBef>
                <a:spcPts val="1519"/>
              </a:spcBef>
              <a:buNone/>
              <a:tabLst>
                <a:tab algn="l" pos="0"/>
              </a:tabLst>
            </a:pPr>
            <a:r>
              <a:rPr b="1" lang="ru-RU" sz="7600" spc="-1" strike="noStrike">
                <a:solidFill>
                  <a:srgbClr val="000000"/>
                </a:solidFill>
                <a:latin typeface="Calibri"/>
              </a:rPr>
              <a:t>В общей сложности на объектах хранится 40 тыс. т. боевых ОВ. В нашей стране самые большие запасы ОВ в мире.</a:t>
            </a: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  <a:p>
            <a:pPr marL="288720" indent="0" algn="just">
              <a:lnSpc>
                <a:spcPct val="100000"/>
              </a:lnSpc>
              <a:spcBef>
                <a:spcPts val="1159"/>
              </a:spcBef>
              <a:buNone/>
              <a:tabLst>
                <a:tab algn="l" pos="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  <a:p>
            <a:pPr marL="288720" indent="0" algn="just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1" lang="ru-RU" sz="5100" spc="-1" strike="noStrike">
                <a:solidFill>
                  <a:srgbClr val="000000"/>
                </a:solidFill>
                <a:latin typeface="Calibri"/>
              </a:rPr>
              <a:t>В 1997 г.  принят ФЗ-76 «Об уничтожении ХО»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2" descr="Картинка загружается..."/>
          <p:cNvPicPr/>
          <p:nvPr/>
        </p:nvPicPr>
        <p:blipFill>
          <a:blip r:embed="rId1"/>
          <a:stretch/>
        </p:blipFill>
        <p:spPr>
          <a:xfrm>
            <a:off x="5724000" y="548640"/>
            <a:ext cx="2910240" cy="25830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4"/>
          <p:cNvSpPr/>
          <p:nvPr/>
        </p:nvSpPr>
        <p:spPr>
          <a:xfrm>
            <a:off x="5148000" y="3069000"/>
            <a:ext cx="399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асно. Ядовиты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Особенности РХБ терроризм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2920" y="1571760"/>
            <a:ext cx="8749800" cy="50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ение компонентов отравляющих и высокотоксичных веществ, биологических рецептур, а также радиоактивных веществ в террористических актах зачастую не имеет демаскирующих признаков (взрывов, цвета, запаха и видимых следов заражения среды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чень потенциально опасных веществ, по сравнению с взрывчатыми, шире в сотни раз. При этом радиационные, химические вещества и контагиозные рецептуры резко различны по физико-химическим и токсическим свойствам, что существенно усложняет задачу  их идентификации и ликвидации последств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ствия акции РХБ терроризма могут быть пролонгированы на длительный срок, а количество пораженных при применении биологических средств, при отсутствии защитных мер, может расти в геометрической прогресс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рально-психологическое воздействие характера поражения от этих веществ несравненно выше, чем от взрывчатых вещест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  <Words>2910</Words>
  <Paragraphs>409</Paragraphs>
  <Company>SamForum.w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41:22Z</dcterms:created>
  <dc:creator>Kirillov</dc:creator>
  <dc:description/>
  <dc:language>en-US</dc:language>
  <cp:lastModifiedBy>user</cp:lastModifiedBy>
  <dcterms:modified xsi:type="dcterms:W3CDTF">2012-07-16T06:08:18Z</dcterms:modified>
  <cp:revision>1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Экран (4:3)</vt:lpwstr>
  </property>
  <property fmtid="{D5CDD505-2E9C-101B-9397-08002B2CF9AE}" pid="4" name="Slides">
    <vt:r8>29</vt:r8>
  </property>
  <property fmtid="{D5CDD505-2E9C-101B-9397-08002B2CF9AE}" pid="5" name="_TemplateID">
    <vt:lpwstr>TC011408031049</vt:lpwstr>
  </property>
</Properties>
</file>