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6E0FA8-23F3-42C9-8E4B-C20DC9383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8676D1-CDFC-48C5-B83E-599EEA0292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58521B-E619-4569-BD21-204637A04D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683662-A656-41A3-A546-E0BCB11695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6C9561-647D-4632-A56C-34D97C0BFA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A5D-C9BA-45EB-85B4-4FCEAD1A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53E-EBC2-4150-8B6B-DC80D2D1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59E-B766-45E7-93F5-1A40FFC4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7DB-E5D2-400F-98F9-71A3BC95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B412-F9AB-4B93-AA0F-BF4E6E95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627A-9225-4148-8215-79711D1F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EE72-2EA5-4F43-A286-026949A5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5EAA-4A79-43BA-A098-3496D205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0BC5-D144-42BF-AF56-681CA588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137-CDC1-4FDA-9714-60D9C609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36AA-75B9-43DA-96AF-FAB680D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851-3FF8-4624-B023-65BC62F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365A-C1C8-437B-A2E6-879DEC4A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CF39-1DBC-4C48-82FC-3346A5F2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20C-F09B-4585-86CA-2657BBF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9FD8-5E55-44E6-B1A0-48EC3E71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072B-9E14-4D0A-8AEC-BBB67CBA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382D-45CD-4447-9914-34AD6FB0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5754-6A4D-4B60-991C-BB763CD9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9AD2-EDB1-4289-9A7D-EE3C8E0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B20E-33B5-4EBA-AAFC-59DE9517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676E-2259-4A1E-ABB2-D045993D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30B-B9C0-4F46-9455-50751CE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94B1-1D08-4FEB-8EDF-59F936C8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8AC2-8D23-4CFB-9B4E-2907B82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043F-B405-4D1F-9882-93BCB66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54E9-31B0-47A7-944C-6A88D8BD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1064-5ACF-4614-B35C-26F0F817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CBEA-E0CF-417D-B0E6-8D6C8556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DE83-E6E6-4354-B9C1-68B6B94D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43E0-61E2-4F1E-BB42-84D0202D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EE30-79D8-4E9B-8799-9077825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3881-5A17-4B20-BED4-ADD9A7B5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06C-09EE-4BF5-AD12-4978C41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7B05-D14F-446B-8F60-233B3EA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FB875-6398-497E-82B5-780D2261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BF5F-DAA8-4FF1-908C-5E855D34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3FE0-0FB6-4D8E-B7B1-2CB4BEB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AA1C-1AAD-472D-A741-9ACD79A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55DA-789A-4141-B1A6-C971B0A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15F4-05AD-4586-94CF-DE007D13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C32B-3AA9-4564-AFCC-4E0A3564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F6A2-7B4B-4FC3-A449-711ED4E1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A76A-D589-4AB6-998C-A5A865D5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4AA-16EF-4672-9C54-FFC1786C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1AB2-35A4-480E-95BF-92371424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5C4E6-BBEE-4F66-8EDE-3350D123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B5CA6-AFB7-4C18-8EAC-A631D4FE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401F-8CA6-4379-AE1E-30E4ED09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133B-2807-49D0-9CCE-BDF35437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DC87-8135-4078-9851-20347CF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7ABC6-9B62-4579-B7EA-E377A01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333B-7608-4171-8E82-D08C222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2670-D5C6-46BA-8B48-9D87CF4F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2E6A3-5782-4A61-BAF8-EDE9C8FD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787-B2D1-4743-9332-32EA4894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A3F7C-943E-4A59-B883-16E5F578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9EC-7FEE-4F32-862F-3CCB98C1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93B-1EDA-490D-B38B-572AD03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F9D-9371-45DC-8EC7-191FF18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12415C-2C27-41A0-B0DF-F4E74D9E2C64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E1CAB8-71C8-4B13-86C3-2FCB11138D3F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87E553-E506-4551-A8BC-55AAB24F7350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C274B2-C8B8-41B1-8690-FCD9C9A75433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229786-EE18-4070-B0BF-966EBC79C56E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f/f7/Biohazard.sv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adioactive.svg" TargetMode="External"/><Relationship Id="rId2" Type="http://schemas.openxmlformats.org/officeDocument/2006/relationships/hyperlink" Target="http://ru.wikipedia.org/wiki/&#1060;&#1072;&#1081;&#1083;:Radioactive.svg" TargetMode="External"/><Relationship Id="rId3" Type="http://schemas.openxmlformats.org/officeDocument/2006/relationships/hyperlink" Target="http://ru.wikipedia.org/wiki/&#1060;&#1072;&#1081;&#1083;:Radioactive.svg" TargetMode="External"/><Relationship Id="rId4" Type="http://schemas.openxmlformats.org/officeDocument/2006/relationships/hyperlink" Target="http://ru.wikipedia.org/w/index.php?title=&#1043;&#1054;&#1057;&#1058;_&#1056;_12.4.026&amp;action=edit&amp;redlink=1" TargetMode="External"/><Relationship Id="rId5" Type="http://schemas.openxmlformats.org/officeDocument/2006/relationships/hyperlink" Target="http://ru.wikipedia.org/w/index.php?title=&#1043;&#1054;&#1057;&#1058;_&#1056;_12.4.026&amp;action=edit&amp;redlink=1" TargetMode="External"/><Relationship Id="rId6" Type="http://schemas.openxmlformats.org/officeDocument/2006/relationships/hyperlink" Target="http://ru.wikipedia.org/wiki/&#1060;&#1072;&#1081;&#1083;:Radioactive.svg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file://upload.wikimedia.org/wikipedia/commons/b/bb/Hazard_E.svg" TargetMode="External"/><Relationship Id="rId9" Type="http://schemas.openxmlformats.org/officeDocument/2006/relationships/image" Target="../media/image16.png"/><Relationship Id="rId10" Type="http://schemas.openxmlformats.org/officeDocument/2006/relationships/hyperlink" Target="file://upload.wikimedia.org/wikipedia/commons/3/39/Hazard_T.svg" TargetMode="Externa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d/Achtung.sv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0200" y="1268640"/>
            <a:ext cx="8713440" cy="286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Террористические угрозы с применением радиоактивных, взрывчатых и химических веществ и оценка террористической уязвимости критически важных объект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481480" y="6334920"/>
            <a:ext cx="6662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1"/>
                </a:solidFill>
                <a:latin typeface="Verdana"/>
              </a:rPr>
              <a:t>Кириллов Владими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t1.gstatic.com/images?q=tbn:ANd9GcRwYh2QnFglvvLDIMcEK7h1fIfmV-5PEYRQYLRXPc3hDe8H67D4"/>
          <p:cNvPicPr/>
          <p:nvPr/>
        </p:nvPicPr>
        <p:blipFill>
          <a:blip r:embed="rId1"/>
          <a:stretch/>
        </p:blipFill>
        <p:spPr>
          <a:xfrm>
            <a:off x="827640" y="4581000"/>
            <a:ext cx="1944000" cy="159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W02"/>
          <p:cNvPicPr/>
          <p:nvPr/>
        </p:nvPicPr>
        <p:blipFill>
          <a:blip r:embed="rId2"/>
          <a:stretch/>
        </p:blipFill>
        <p:spPr>
          <a:xfrm>
            <a:off x="3852000" y="4581000"/>
            <a:ext cx="1823040" cy="158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Картинка загружается..."/>
          <p:cNvPicPr/>
          <p:nvPr/>
        </p:nvPicPr>
        <p:blipFill>
          <a:blip r:embed="rId3"/>
          <a:stretch/>
        </p:blipFill>
        <p:spPr>
          <a:xfrm>
            <a:off x="6804360" y="4509000"/>
            <a:ext cx="18889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классификации академика РАМН А.А. Воробьё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наиболее опасными средствами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иотерроризм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могут быт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натуральной осп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и ч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бирской язв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тулизма (токсины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моррагической лихорадки Марбур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ярем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несуэльского энцефалита лошадей (ВЭЛ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иоидоз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ппа, сыпного тиф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возбудители бруцеллеза, японского энцефалита, жёлтой лихорадки, холеры, токсины столбняка, дифтери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http://mirbukashek.ru/wp-content/uploads/2008/11/strekoza.jpg"/>
          <p:cNvPicPr/>
          <p:nvPr/>
        </p:nvPicPr>
        <p:blipFill>
          <a:blip r:embed="rId1"/>
          <a:stretch/>
        </p:blipFill>
        <p:spPr>
          <a:xfrm>
            <a:off x="0" y="404640"/>
            <a:ext cx="2555280" cy="206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Файл:Biohazard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692640"/>
            <a:ext cx="3151440" cy="2880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5292000" y="3645000"/>
            <a:ext cx="385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Как пузырь машина с пеной заволакивает для венчаний"/>
          <p:cNvPicPr/>
          <p:nvPr/>
        </p:nvPicPr>
        <p:blipFill>
          <a:blip r:embed="rId1"/>
          <a:stretch/>
        </p:blipFill>
        <p:spPr>
          <a:xfrm>
            <a:off x="6804360" y="249300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"/>
          <p:cNvSpPr/>
          <p:nvPr/>
        </p:nvSpPr>
        <p:spPr>
          <a:xfrm>
            <a:off x="179640" y="0"/>
            <a:ext cx="878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сколько килограммов спор возбудителей сибирской язвы могут уничтожить такое же количество гражданского населения, как ядерная бомба, равная по мощности сброшенной на Хироси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и видами такого оружия являются бактерии, вирусы, риккетсии и грибки, а также продукты их жизнедеятельности - токсины. Поражение людей может происходить при попадании их через органы дыхания, желудочно-кишечный тракт, слизистые оболочки (рта, носа, глаз) и поврежденные кожные покровы. Наибольшую опасность представляет распыление бактериальных рецептур в виде аэроз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этом в воздухе образуется бактериальное обла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еремещаясь в направлении движения воздух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оседать на почву, воду, растения и 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ы, а также на кожные покровы людей и животны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ьшую угрозу в качестве самостоятельного биологического оружия представляет собой возбудител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бирской язв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Инкубационный (скрытый) период при ингаляционном пути поступлении возбудителя варьируют от 1 до 6 дней, 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овень летальности при ингаляционной форме сибирской язвы колеблется от 87 до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9640" y="260640"/>
            <a:ext cx="896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З Президента РФ от 14.06.2012 N 851 "О ПОРЯДКЕ УСТАНОВЛЕНИЯ УРОВНЕЙ ТЕРРОРИСТИЧЕСКОЙ ОПАСНОСТИ, ПРЕДУСМАТРИВАЮЩИХ ПРИНЯТИЕ ДОПОЛНИТЕЛЬНЫХ МЕР ПО ОБЕСПЕЧЕНИЮ БЕЗОПАСНОСТИ ЛИЧНОСТИ, ОБЩЕСТВА И ГОСУДАРСТВА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640" y="2049120"/>
            <a:ext cx="8783640" cy="47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В целях своевременного информирования населения о возникновении угрозы террористического акта и организации деятельности по противодействию его совершению могут устанавливаться следующие уровни террористической опасности на отдельных участках территории Российской Федерации (объект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а) повышенный (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синий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должна быть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) высокий (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жёлтый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) критический (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состоялся 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72360" y="3501000"/>
            <a:ext cx="2771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е более 15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220000" y="573336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– 5 цветов, во Франции – 4 цвета, в Великобритании – 5 уровней (без цве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51640" y="258480"/>
            <a:ext cx="8712720" cy="588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ы о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hlinkClick r:id="rId1"/>
              </a:rPr>
              <a:t>пасности в РФ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  <a:hlinkClick r:id="rId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Arial"/>
                <a:hlinkClick r:id="rId3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предупреждающего знака «Опас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активные вещества или ионизирующее излу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уществу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4"/>
              </a:rPr>
              <a:t>ГОСТ Р 12.4.026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 сигнальные, знаки безопасности и разметка сигнальна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щий назначение, правила применения, виды и испол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графическое изображение, размеры, технические требования и характеристики, методы испытаний знаков безопасности, в том числе и содержащих символы опасности. В соответствии с этим ГОСТ знаки безопасности — цветографическое изображение определенной геометрической формы с использованием сигнальных и контрастных цветов, графических символов и (или) поясняющих надписей, предназначенное для предупреждения людей о непосредственной или возможной опасности, запрещения, предписания или разрешения определенных действий, а также для информации о расположении объектов и средств, использование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ет или снижает воздействие опасных и (или) вредных факторов. Знаки безопасности стандартизированны и приведены также в ранее действовав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5"/>
              </a:rPr>
              <a:t>ГОСТ Р 12.4.0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СБТ «Цвета сигнальные, знаки безопасности и разметка сигналь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http://bits.wikimedia.org/static-1.20wmf6/skins/common/images/magnify-clip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5520" y="14400"/>
            <a:ext cx="142560" cy="10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W02"/>
          <p:cNvPicPr/>
          <p:nvPr/>
        </p:nvPicPr>
        <p:blipFill>
          <a:blip r:embed="rId1"/>
          <a:stretch/>
        </p:blipFill>
        <p:spPr>
          <a:xfrm>
            <a:off x="4932000" y="0"/>
            <a:ext cx="1691280" cy="1469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W03"/>
          <p:cNvPicPr/>
          <p:nvPr/>
        </p:nvPicPr>
        <p:blipFill>
          <a:blip r:embed="rId2"/>
          <a:stretch/>
        </p:blipFill>
        <p:spPr>
          <a:xfrm>
            <a:off x="827640" y="1340640"/>
            <a:ext cx="1728000" cy="1500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W05"/>
          <p:cNvPicPr/>
          <p:nvPr/>
        </p:nvPicPr>
        <p:blipFill>
          <a:blip r:embed="rId3"/>
          <a:stretch/>
        </p:blipFill>
        <p:spPr>
          <a:xfrm>
            <a:off x="6156000" y="1484640"/>
            <a:ext cx="1800000" cy="153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W09"/>
          <p:cNvPicPr/>
          <p:nvPr/>
        </p:nvPicPr>
        <p:blipFill>
          <a:blip r:embed="rId4"/>
          <a:stretch/>
        </p:blipFill>
        <p:spPr>
          <a:xfrm>
            <a:off x="179640" y="0"/>
            <a:ext cx="1523520" cy="132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W16"/>
          <p:cNvPicPr/>
          <p:nvPr/>
        </p:nvPicPr>
        <p:blipFill>
          <a:blip r:embed="rId5"/>
          <a:stretch/>
        </p:blipFill>
        <p:spPr>
          <a:xfrm>
            <a:off x="251640" y="3285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0" y="4653000"/>
            <a:ext cx="356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W17"/>
          <p:cNvPicPr/>
          <p:nvPr/>
        </p:nvPicPr>
        <p:blipFill>
          <a:blip r:embed="rId6"/>
          <a:stretch/>
        </p:blipFill>
        <p:spPr>
          <a:xfrm>
            <a:off x="3852000" y="3861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5364000" y="4149000"/>
            <a:ext cx="37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Вредные для здоровья аллергически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0" y="2997000"/>
            <a:ext cx="424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Радиоактивные вещества или ионизирующие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0" y="2781000"/>
            <a:ext cx="41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W04"/>
          <p:cNvPicPr/>
          <p:nvPr/>
        </p:nvPicPr>
        <p:blipFill>
          <a:blip r:embed="rId7"/>
          <a:stretch/>
        </p:blipFill>
        <p:spPr>
          <a:xfrm>
            <a:off x="2123640" y="553392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3492000" y="6021360"/>
            <a:ext cx="38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Едкие или коррозион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551640" y="4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о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691640" y="26064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Файл:Hazard 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0720" y="836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Файл:Hazard T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900720" y="306900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89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оответствии с принятыми решениями Совещания от 13.11.03 г. приказами МЧС России утвержд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территорий субъектов Российской Федерации и муниципальных образований»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опасного объекта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43480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 algn="just">
              <a:lnSpc>
                <a:spcPct val="100000"/>
              </a:lnSpc>
              <a:spcBef>
                <a:spcPts val="7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900" spc="-1" strike="noStrike">
                <a:solidFill>
                  <a:srgbClr val="000000"/>
                </a:solidFill>
                <a:latin typeface="Calibri"/>
              </a:rPr>
              <a:t>Диверсионно-террористическая уязвимость объек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(ДТУ) – это степень несоответствия принятых на объекте мер защиты предполагаемой террористической угрозе, выраженная в процентах, относительных единицах (от 0 до 1) или в качественных понятиях: «неприемлемо высокая уязвимость», «высокая уязвимость», «средняя уязвимость», «низкая уязвимость»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0" algn="just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7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7800" spc="-1" strike="noStrike">
                <a:solidFill>
                  <a:srgbClr val="000000"/>
                </a:solidFill>
                <a:latin typeface="Calibri"/>
              </a:rPr>
              <a:t>ДТУ= 1 - ДТЗ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109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водятся 15 криминолого-криминалистических критери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4200" y="1196640"/>
            <a:ext cx="89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частота встречаемости диверсионно-террористического средства и способа его примен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незащищённых люд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отдельного 3-5-этажного здания или аналогичного капитального соору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скрытных способов перемещения и доставки данного средства поражения к объек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у данного средства поражения демаскирующих признак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инженерной защиты объекта, возможность скрытного проникновения на объект с данным средством по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сил террористического противодейств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на объекте антитеррористических средств и досмотрового оборуд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антитеррористических инструктивно-методических разработок для персон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состояние антитеррористической подготовки работающего персонала (определяется тестированием по определённой методике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отраслевой и ведомственный фактор (относимость объекта к объектам жизнеобеспечения, транспорта, связи, потенциально опасным и критически важным объектам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утренний криминогенный фактор (степень криминализации и напряжённости социальных отношений внутри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ешний криминогенный фактор (степень криминализации и напряжённости социальных отношений вокруг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еографический фактор (местонахождения объекта по отношению к мегаполисам, большим городам и очагам внутреннего и международного терроризм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ременной фактор (уровень террористической угрозы в стране в данный промежуток вре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007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2000"/>
          </a:bodyPr>
          <a:p>
            <a:pPr indent="0" algn="just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Рейтинговая оценка значимости критериев для различных моделей расчёта диверсионно-террористической уязвимости (ДТУ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Содержимое 3"/>
          <p:cNvGraphicFramePr/>
          <p:nvPr/>
        </p:nvGraphicFramePr>
        <p:xfrm>
          <a:off x="0" y="260640"/>
          <a:ext cx="9143640" cy="6428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3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дель расчёта Д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Оценка значимости критериев (бал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рас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модель «Б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расчёта (модель «О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57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расчёта (модель «ПМ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57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рекомендации по ранжированию критериев 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Содержимое 5"/>
          <p:cNvGraphicFramePr/>
          <p:nvPr/>
        </p:nvGraphicFramePr>
        <p:xfrm>
          <a:off x="142920" y="0"/>
          <a:ext cx="8715240" cy="6725160"/>
        </p:xfrm>
        <a:graphic>
          <a:graphicData uri="http://schemas.openxmlformats.org/drawingml/2006/table">
            <a:tbl>
              <a:tblPr/>
              <a:tblGrid>
                <a:gridCol w="983520"/>
                <a:gridCol w="2502360"/>
                <a:gridCol w="1742760"/>
                <a:gridCol w="1742760"/>
                <a:gridCol w="1742760"/>
              </a:tblGrid>
              <a:tr h="3664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Наименование крит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Рейтинг значимости критерия для подсчёта Д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Частота встречаемости диверсионно-террористического средства и способа его приме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звестны факты применения для данного вида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фиксировано несколько случаев в данном реги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менялось в данном регионе (1-2 случа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незащищённых люд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олее  10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0-100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 5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отдельного 3-5-этажного здания или аналогичного капитального стро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ничтож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руш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врежд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скрытных способов перемещения и доставки средства поражения к объе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Много способ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3-4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1-2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у средства поражения демаскирующих свойств и призна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ство обнаруживается обученными специалистами с использованием спецтех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нужно знать, средство обнаруживается проинструктированным персона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очевидны, средство обнаруживается визуа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инженерной защиты объекта, возможность скрытного проникновения на объект с данным средств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нженерной защиты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рритория ограждена, есть вахтёры на входах и ночные сторож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руглосуточная охрана периметра, системы видеонаблюдения, СКУ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сил противодейст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ил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имеются, но их готовность и профессионализм не на должном уро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укомплектованы, обучены и находятся в постоянной готов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на объекте антитеррористических средств и досмотрового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редств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меются отдельные ви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омплекты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антитеррористических инструктивно-методических разработок для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кументация отсутству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мятки и общие рекоменд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кет адресных инструкций руководству и персоналу для типовых случа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стояние антитеррористической подготовки работающего персонала (определяется тестирование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е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Хорошее и отлич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траслевой фактор (относимость объекта к объектам повышенного риск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особо важных охраняем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потенциально опас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не относится к типичным объектам террористических устрем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утренний криминогенный фактор (степень криминализации внутри объектовы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преступления и латентн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конфликты и правонару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только сложные межличностные отно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ешний криминогенны фактор (степень криминализации отношений вокруг объек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организованные преступные группировк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преступления в сфере экономически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правонарушения и бытов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Географический фактор (местонахождение объекта по отношению к мегаполисам, большим городам и очагам террориз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нутр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 пограничной з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за пределам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ременной фактор (уровень террористической угрозы в стране в данный промежуток времен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23640" y="260640"/>
            <a:ext cx="842472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Ы Л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ктуальность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рмины и определения. Понятие технологического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радиоактивных, взрывчатых, химических и биологических препаратов, потенциально пригодных для проведения террористически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одика оценки диверсионно-террористической уязвимости критически важ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892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омендации по нормированию Д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ые бальные оценки значимости критериев в разных моделях расчёта варьируются в пределах 150 – 45 (пессимистическая модель), 120 – 0 (базовая модель) и 75 – 0 (оптимистическая модель). Нормировочный множитель во всех моделях избран единым и равен 1/150. При этом бальная оценка ДТУ определяется безразмерным числом, находящимся в пределах от нуля до единицы. Нулевому значению соответствует полная террористическая защищённость (неуязвимость), единице – полная незащищённость (полная террористическая уязвимость) объекта по отношению к конкретной террористической угроз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ение ДТУ к каждому виду угроз осуществляется путём экспертной оценки значимости критериев от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и избранной расчётной модели. Экспертная оценка может выполняться как индивидуально, так и группой специалис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иболее вероятные 12 Т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по телефон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демонстративная закладка муляжа ВВ или В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крытая закладка ВУ на объекте и его взрыв (мощностью до 1 кт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припаркованного возле объекта автомобиля с химическим ВВ (до 5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химического ВВ в движущемся к объекту автомобиле с террористом-смертником (более 50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одбрасывание закамуфлированных под бытовые предметы мин-ловушек (до 0,5 к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оникновение на объект террориста-смертника с ВУ (до 1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сылка конкретному адресату ВВ в почтовом отправлении (до 100 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хват и удержание заложников с использованием оружия и ВУ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радиоактивных веществ (изотопные гамма-источники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токсических химикатов (ТУ заражения источников водоснабжения ТХ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биологических веществ (засылка почтового отправления с биореагентами).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36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мические, биологические и радиологические 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1" name="Содержимое 6"/>
          <p:cNvGraphicFramePr/>
          <p:nvPr/>
        </p:nvGraphicFramePr>
        <p:xfrm>
          <a:off x="0" y="764640"/>
          <a:ext cx="9143640" cy="5231520"/>
        </p:xfrm>
        <a:graphic>
          <a:graphicData uri="http://schemas.openxmlformats.org/drawingml/2006/table">
            <a:tbl>
              <a:tblPr/>
              <a:tblGrid>
                <a:gridCol w="357120"/>
                <a:gridCol w="1500120"/>
                <a:gridCol w="2643120"/>
                <a:gridCol w="46432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 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сто, 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.Грозный,  200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рыв ёмкостей с хл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 (яд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еченская республика, 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наружение на базе в  больших количествах мышьяка и сулемы в пакетах с инструкциями по применению в 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198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ражение пищи биологическим агентом - сальмонелл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2001 г. (и некоторые другие стра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лоумышленная рассылка в почтовых отправлениях белого порошка со спорами бактерий сибирской язвы (штаммы-возбуди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дерный террор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итва, 1994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 угрозой взорвать Игналинскую АЭС преступная группировка потребовала отмены смертного приговора своему главар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д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Европе 70 случаев в год, в США 50 случаев в год, с начала 90-х годов в Грузии было обнаружено 300 "бесхозных« радиоактивных источников, в России 10 случаев в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пажа, утеря, хищения Р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ША, начиная с 1996 года, было зарегистрировано 850 случаев пропажи радиоактивных материалов, обнаружить которые так и не удалос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ррористическая радиологическая угр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ноябре 1995 г. в Измайловском парке в Москве был обнаружен и извлечен из земли контейнер с цезием-137, заложенный чеченскими экстремиста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была первая реальная попытка осуществления радиационного терроризма. Заявление Д. Дудаева: «То, что мы продемонстрировали в Измайловском парке всему мировому сообществу и Москве, — это мизерная доля тех радиоактивных веществ, которые мы имеем»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применением боевых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пония, 1994-1995 г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лигиозной организацией «Аум-Синрике» в подпольной лаборатории было синтезировано ОВ нервно-паралитического действия «зарин» и применено с автомобиля на улицах города и в Токийском мет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"/>
          </a:bodyPr>
          <a:p>
            <a:pPr indent="0" algn="just">
              <a:lnSpc>
                <a:spcPct val="100000"/>
              </a:lnSpc>
              <a:buNone/>
            </a:pP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Содержимое 4"/>
          <p:cNvGraphicFramePr/>
          <p:nvPr/>
        </p:nvGraphicFramePr>
        <p:xfrm>
          <a:off x="285840" y="714240"/>
          <a:ext cx="8643600" cy="583668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60720"/>
                <a:gridCol w="2160720"/>
              </a:tblGrid>
              <a:tr h="3182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ритерий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ценка значимости критерия, 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«Б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«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«П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относительны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5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 расчёта ДТУ автобуса для случая скрытой закладки ВВ в са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5"/>
          <p:cNvSpPr/>
          <p:nvPr/>
        </p:nvSpPr>
        <p:spPr>
          <a:xfrm>
            <a:off x="539640" y="260280"/>
            <a:ext cx="8064000" cy="647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асность РХБ терроризма на территории РФ существует. Из них наиболее масштабный по последствиям, трудности обнаружения и ликвидации последствий – биотерроризм. Предпосылками для его осуществления является наличие сотен предприятий, работающих с возбудителями патогенных микроорганизмов, не исключен также нелегальный ввоз возбудителей рецептур БПА и устройств для их применения  из-за рубе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Для поражения нескольких сот или тысяч людей на открытой местности или внутри сооружений (через систему вентиляции) достаточное количество рецептур БПА, в пересчете на ранее разрабатываемые боевые ,– несколько грамм, или при получении их в подпольных лабораториях – несколько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Ликвидация последствий биотерроризма сопряжена с особыми трудностями по установлению зон опасного заражения местности, сооружений и объектов и с высокими затратами на проведение дезинфекционных работ. Одной из главных задач объективной оценки биологической обстановки является экспериментальное установление коэффициента или долы отрыва высевшего тонкодисперсного аэрозоля БПА от поверх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Для предупреждения биотерроризма необходимы меры: введение ограничений и контроль лиц (организаций), работающих  с опасными возбудителями заболеваний, а также приобретающих (работающих с) микробиологическое оборудование, используемое для наработки биокультур (бактерий, вирусов, риккетси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:\фото отм\19371in.png"/>
          <p:cNvPicPr/>
          <p:nvPr/>
        </p:nvPicPr>
        <p:blipFill>
          <a:blip r:embed="rId1"/>
          <a:stretch/>
        </p:blipFill>
        <p:spPr>
          <a:xfrm>
            <a:off x="0" y="404640"/>
            <a:ext cx="2428560" cy="242100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3" descr="C:\Users\Public\Pictures\pict.jpg"/>
          <p:cNvPicPr/>
          <p:nvPr/>
        </p:nvPicPr>
        <p:blipFill>
          <a:blip r:embed="rId2"/>
          <a:stretch/>
        </p:blipFill>
        <p:spPr>
          <a:xfrm>
            <a:off x="2571840" y="571320"/>
            <a:ext cx="2889360" cy="2166480"/>
          </a:xfrm>
          <a:prstGeom prst="rect">
            <a:avLst/>
          </a:prstGeom>
          <a:ln w="9525">
            <a:noFill/>
          </a:ln>
        </p:spPr>
      </p:pic>
      <p:sp>
        <p:nvSpPr>
          <p:cNvPr id="278" name="TextBox 4"/>
          <p:cNvSpPr/>
          <p:nvPr/>
        </p:nvSpPr>
        <p:spPr>
          <a:xfrm>
            <a:off x="179280" y="4941000"/>
            <a:ext cx="89643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М –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конституционных прав  граждан по судебному ре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 ПОДЛЕЖАТ ОГРАНИЧЕНИЮ ПРАВА И СВОБОДЫ ст. 20,21, 23(1), 24,28,34(1),40(1),46-54 Конституци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920" y="2857320"/>
            <a:ext cx="621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1f497d"/>
                </a:solidFill>
                <a:latin typeface="Verdana"/>
              </a:rPr>
              <a:t>180сут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Kirillov\Мои документы\Мои рисунки\фото отм\отм\sud.jpg"/>
          <p:cNvPicPr/>
          <p:nvPr/>
        </p:nvPicPr>
        <p:blipFill>
          <a:blip r:embed="rId3"/>
          <a:stretch/>
        </p:blipFill>
        <p:spPr>
          <a:xfrm>
            <a:off x="6588000" y="3284640"/>
            <a:ext cx="2231640" cy="1671120"/>
          </a:xfrm>
          <a:prstGeom prst="rect">
            <a:avLst/>
          </a:prstGeom>
          <a:ln w="9525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2" name="Picture 4" descr="orig ф "/>
          <p:cNvPicPr/>
          <p:nvPr/>
        </p:nvPicPr>
        <p:blipFill>
          <a:blip r:embed="rId4"/>
          <a:stretch/>
        </p:blipFill>
        <p:spPr>
          <a:xfrm>
            <a:off x="5786280" y="500040"/>
            <a:ext cx="3142800" cy="249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Kirillov\Мои документы\Мои рисунки\фото отм\000229277_000232954_sizus600.jpg"/>
          <p:cNvPicPr/>
          <p:nvPr/>
        </p:nvPicPr>
        <p:blipFill>
          <a:blip r:embed="rId1"/>
          <a:stretch/>
        </p:blipFill>
        <p:spPr>
          <a:xfrm>
            <a:off x="214200" y="5072040"/>
            <a:ext cx="2428560" cy="1785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Documents and Settings\Kirillov\Мои документы\Мои рисунки\фото отм\1333343990853_bulletin.jpg"/>
          <p:cNvPicPr/>
          <p:nvPr/>
        </p:nvPicPr>
        <p:blipFill>
          <a:blip r:embed="rId2"/>
          <a:stretch/>
        </p:blipFill>
        <p:spPr>
          <a:xfrm>
            <a:off x="0" y="4143240"/>
            <a:ext cx="2214360" cy="15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Public\Pictures\simple_img_1.jpg"/>
          <p:cNvPicPr/>
          <p:nvPr/>
        </p:nvPicPr>
        <p:blipFill>
          <a:blip r:embed="rId3"/>
          <a:stretch/>
        </p:blipFill>
        <p:spPr>
          <a:xfrm>
            <a:off x="4214880" y="2643120"/>
            <a:ext cx="2273040" cy="1453680"/>
          </a:xfrm>
          <a:prstGeom prst="rect">
            <a:avLst/>
          </a:prstGeom>
          <a:ln w="9525">
            <a:noFill/>
          </a:ln>
        </p:spPr>
      </p:pic>
      <p:pic>
        <p:nvPicPr>
          <p:cNvPr id="286" name="Picture 2" descr="C:\Users\Public\Pictures\435347422-9382-thickbox.jpg"/>
          <p:cNvPicPr/>
          <p:nvPr/>
        </p:nvPicPr>
        <p:blipFill>
          <a:blip r:embed="rId4"/>
          <a:stretch/>
        </p:blipFill>
        <p:spPr>
          <a:xfrm>
            <a:off x="3071880" y="2500200"/>
            <a:ext cx="1317240" cy="914040"/>
          </a:xfrm>
          <a:prstGeom prst="rect">
            <a:avLst/>
          </a:prstGeom>
          <a:ln w="9525">
            <a:noFill/>
          </a:ln>
        </p:spPr>
      </p:pic>
      <p:pic>
        <p:nvPicPr>
          <p:cNvPr id="287" name="Picture 2" descr="C:\Documents and Settings\Kirillov\Мои документы\Мои рисунки\фото отм\отм\1291489791_stol2.jpg"/>
          <p:cNvPicPr/>
          <p:nvPr/>
        </p:nvPicPr>
        <p:blipFill>
          <a:blip r:embed="rId5"/>
          <a:stretch/>
        </p:blipFill>
        <p:spPr>
          <a:xfrm>
            <a:off x="6715080" y="2500200"/>
            <a:ext cx="2202480" cy="163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Kirillov\Мои документы\Мои рисунки\фото отм\отм\561_1_m.jpg"/>
          <p:cNvPicPr/>
          <p:nvPr/>
        </p:nvPicPr>
        <p:blipFill>
          <a:blip r:embed="rId6"/>
          <a:stretch/>
        </p:blipFill>
        <p:spPr>
          <a:xfrm>
            <a:off x="0" y="2357280"/>
            <a:ext cx="2575800" cy="1785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8"/>
          <p:cNvSpPr/>
          <p:nvPr/>
        </p:nvSpPr>
        <p:spPr>
          <a:xfrm>
            <a:off x="0" y="3810960"/>
            <a:ext cx="89294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Внимание-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СТС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214200" y="500040"/>
            <a:ext cx="8143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КС от 31.03.2011 г. № 3-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елу о проверке конституционности ч.3 ст.138 УК РФ. ч.3 ст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 РФ: «Незаконное производство, сбыт или приобре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(без цели сбыта!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С, предназначенных для негла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ения информации, - …лишением свободы на срок до трёх л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:\Documents and Settings\Kirillov\Мои документы\Мои рисунки\фото отм\turma.jpg"/>
          <p:cNvPicPr/>
          <p:nvPr/>
        </p:nvPicPr>
        <p:blipFill>
          <a:blip r:embed="rId7"/>
          <a:stretch/>
        </p:blipFill>
        <p:spPr>
          <a:xfrm>
            <a:off x="7215120" y="928800"/>
            <a:ext cx="1761840" cy="1213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Kirillov\Мои документы\Мои рисунки\фото отм\отм\750x1000_ut000022734_1.jpg"/>
          <p:cNvPicPr/>
          <p:nvPr/>
        </p:nvPicPr>
        <p:blipFill>
          <a:blip r:embed="rId8"/>
          <a:stretch/>
        </p:blipFill>
        <p:spPr>
          <a:xfrm>
            <a:off x="7184520" y="4929120"/>
            <a:ext cx="1959120" cy="192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Kirillov\Мои документы\Мои рисунки\фото отм\sonyericsson_xperia_mini_pro_39461d.jpg"/>
          <p:cNvPicPr/>
          <p:nvPr/>
        </p:nvPicPr>
        <p:blipFill>
          <a:blip r:embed="rId9"/>
          <a:stretch/>
        </p:blipFill>
        <p:spPr>
          <a:xfrm>
            <a:off x="7572240" y="5072040"/>
            <a:ext cx="499680" cy="83808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низ 11"/>
          <p:cNvSpPr/>
          <p:nvPr/>
        </p:nvSpPr>
        <p:spPr>
          <a:xfrm>
            <a:off x="7572240" y="4643280"/>
            <a:ext cx="484200" cy="54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4" descr="C:\Users\Public\Pictures\i.jpg"/>
          <p:cNvPicPr/>
          <p:nvPr/>
        </p:nvPicPr>
        <p:blipFill>
          <a:blip r:embed="rId10"/>
          <a:stretch/>
        </p:blipFill>
        <p:spPr>
          <a:xfrm>
            <a:off x="6000840" y="5500800"/>
            <a:ext cx="1052280" cy="1052280"/>
          </a:xfrm>
          <a:prstGeom prst="rect">
            <a:avLst/>
          </a:prstGeom>
          <a:ln w="9525">
            <a:noFill/>
          </a:ln>
        </p:spPr>
      </p:pic>
    </p:spTree>
  </p:cSld>
  <p:transition spd="slow"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2357280" y="1785960"/>
            <a:ext cx="335736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И-2 11 Центра ФСБ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центр судебно-медицинских и криминалистических экспертиз Миноборон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Экспертно-криминал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ГУВД Мос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2 лаборатории Миню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гаринский районный суд г. Москвы «Российска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азета» от 09.02.2010 г. «Пятиминутка правд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450900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. 49 Конституц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Обвиняемый не обязан доказывать свою невин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Kirillov\Мои документы\Мои рисунки\фото отм\229788.jpg"/>
          <p:cNvPicPr/>
          <p:nvPr/>
        </p:nvPicPr>
        <p:blipFill>
          <a:blip r:embed="rId1"/>
          <a:stretch/>
        </p:blipFill>
        <p:spPr>
          <a:xfrm>
            <a:off x="5715000" y="1857240"/>
            <a:ext cx="2999880" cy="2615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Kirillov\Мои документы\Мои рисунки\фото отм\programma_1.jpg"/>
          <p:cNvPicPr/>
          <p:nvPr/>
        </p:nvPicPr>
        <p:blipFill>
          <a:blip r:embed="rId2"/>
          <a:stretch/>
        </p:blipFill>
        <p:spPr>
          <a:xfrm>
            <a:off x="142920" y="2000160"/>
            <a:ext cx="2285640" cy="2151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2" descr="Знак гиф"/>
          <p:cNvPicPr/>
          <p:nvPr/>
        </p:nvPicPr>
        <p:blipFill>
          <a:blip r:embed="rId3"/>
          <a:stretch/>
        </p:blipFill>
        <p:spPr>
          <a:xfrm>
            <a:off x="0" y="1785960"/>
            <a:ext cx="2428560" cy="2428560"/>
          </a:xfrm>
          <a:prstGeom prst="rect">
            <a:avLst/>
          </a:prstGeom>
          <a:ln w="9525">
            <a:noFill/>
          </a:ln>
        </p:spPr>
      </p:pic>
      <p:sp>
        <p:nvSpPr>
          <p:cNvPr id="302" name="Прямоугольник 8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0" y="714240"/>
            <a:ext cx="91436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ТРЫ ПСИХОФИЗИОЛОГИЧЕСКОЙ ЭКСПЕРТ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0" y="54453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в СУДЕ с 1993 года, ФБР и ЦРУ с 194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уде Польша, 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ССР в ОРД с 1975 г. до 1991 г. только КГБ и ГРУ. Российский «Диагноз» 4500 у.е., в США – 11000 у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5723E-006 C 0.00364 0.00648 0.00503 0.00763 0.00955 0.00463 C 0.0092 0.0007 0.01007 -0.00462 0.0085 -0.0074 C 0.00816 -0.00763 0.00069 -0.003 3.61111E-006 -0.00231 C -0.00382 0.00278 -0.00643 0.00879 -0.01077 0.0118 C -0.01198 0.0111 -0.01372 0.01156 -0.01424 0.00925 C -0.01563 0.00347 -0.01077 -0.00092 -0.00955 -0.00231 C -0.004 0.00463 -0.00295 0.00486 0.00364 0.00232 C 0.0033 -0.00092 0.00382 -0.00555 0.0026 -0.0074 C -0.00209 -0.01364 -0.0033 0.01341 -0.00348 0.01411 C -0.00816 0.0044 -0.00799 -0.00531 -0.00122 -0.00971 C 0.00208 0.00925 -0.00122 0.00532 0.0085 0.00232 C 0.00034 -0.00323 0.00104 0.00856 3.61111E-006 0.02128 C -0.00573 0.01734 -0.00521 0.0155 -0.00348 0.00463 C -0.00157 0.00532 0.00069 0.00532 0.0026 0.00694 C 0.00902 0.01272 -0.00052 0.0148 0.00955 0.00925 C 0.0118 -0.00208 0.01059 -0.0037 0.00486 -3.75723E-006 C 0.00364 0.00232 0.00277 0.00602 0.00121 0.00694 C -0.00087 0.00833 -0.00504 0.0007 -0.00348 -0.00231 C -0.00261 -0.00416 -0.00122 -0.00092 3.61111E-006 -3.75723E-006 Z">
                                      <p:cBhvr>
                                        <p:cTn id="20" dur="6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9640" y="602136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251640" y="260640"/>
            <a:ext cx="889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W03"/>
          <p:cNvPicPr/>
          <p:nvPr/>
        </p:nvPicPr>
        <p:blipFill>
          <a:blip r:embed="rId1"/>
          <a:stretch/>
        </p:blipFill>
        <p:spPr>
          <a:xfrm>
            <a:off x="6948360" y="4725000"/>
            <a:ext cx="1728000" cy="15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79640" y="-115560"/>
            <a:ext cx="8712720" cy="68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роризм технологический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или угроза использования ядерного, химического и биологического оружия, радиоактивных, высокотоксичных химических и биологических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захват или попытки захвата экстремистами ядерных и иных объектов, представляющих повышенную опасность для жизни и здоровья людей, ради достижения целей политического или материаль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ически важный объект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, нарушение или прекращение функционирования которого приводит на длительный период к потере управления, разрушению инфраструктуры, необратимому негативному изменению или разрушению экономики страны, субъекта или крупной административно-территориальной единицы, или существенному ухудшению безопасности жизнедеятельности населения, проживающего на этой терри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914364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ая угро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один из возможных способов совершения террористического 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з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ий 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ершение, взрыва, поджога или иных действий, связанных с устрашением населения и создающих опасность гибели человека, причинения значительного имущественного ущерба либо наступления экологической катастрофы или иных особо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96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Количество объектов высокой потенциальной опасности в РФ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военный комплекс           1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гражданский комплекс   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й комплекс                       3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кальные инженерные комплексы (плотины, дамбы)                               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ургический комплекс           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истральные трубопроводы240 (тыс. к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ный комплекс                    3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0" descr="Файл:Achtun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1600" y="5174280"/>
            <a:ext cx="1922040" cy="168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09"/>
          <p:cNvPicPr/>
          <p:nvPr/>
        </p:nvPicPr>
        <p:blipFill>
          <a:blip r:embed="rId3"/>
          <a:stretch/>
        </p:blipFill>
        <p:spPr>
          <a:xfrm>
            <a:off x="498600" y="5373360"/>
            <a:ext cx="1708920" cy="1484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2051640" y="580536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половин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еления РФ проживает в зонах возможного действия поражающих и вредных факторов ЧС. Зоны возможного действия поражающих и вредных факторов ЧС составляют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2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е территор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средняя плотность населения в зонах возможного поражения при ЧС наблюдается в Центральном и Приволжско-Уральском федеральных округах. В этих же округах сосредоточено и наибольшее количество потенциально опасных объек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896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Calibri"/>
              </a:rPr>
              <a:t>28% россиян живут в зонах возможного химического заражения. «Главные очаги» его – базы хранения ОВ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Таковых на территории России сем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Горный (Саратовская область)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Леонидовка (Пензенская область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Марадыковский (Кировская обла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Щучье (Курганская область)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Почеп (Брянская облаг.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Камбарк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Кизнер в Удмуртии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519"/>
              </a:spcBef>
              <a:buNone/>
              <a:tabLst>
                <a:tab algn="l" pos="0"/>
              </a:tabLst>
            </a:pPr>
            <a:r>
              <a:rPr b="1" lang="ru-RU" sz="7600" spc="-1" strike="noStrike">
                <a:solidFill>
                  <a:srgbClr val="000000"/>
                </a:solidFill>
                <a:latin typeface="Calibri"/>
              </a:rPr>
              <a:t>В общей сложности на объектах хранится 40 тыс. т. боевых ОВ. В нашей стране самые большие запасы ОВ в мире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В 1997 г.  принят ФЗ-76 «Об уничтожении ХО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Картинка загружается..."/>
          <p:cNvPicPr/>
          <p:nvPr/>
        </p:nvPicPr>
        <p:blipFill>
          <a:blip r:embed="rId1"/>
          <a:stretch/>
        </p:blipFill>
        <p:spPr>
          <a:xfrm>
            <a:off x="5724000" y="548640"/>
            <a:ext cx="291024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5148000" y="3069000"/>
            <a:ext cx="39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собенности РХБ террориз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749800" cy="50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онентов отравляющих и высокотоксичных веществ, биологических рецептур, а также радиоактивных веществ в террористических актах зачастую не имеет демаскирующих признаков (взрывов, цвета, запаха и видимых следов заражения сре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ень потенциально опасных веществ, по сравнению с взрывчатыми, шире в сотни раз. При этом радиационные, химические вещества и контагиозные рецептуры резко различны по физико-химическим и токсическим свойствам, что существенно усложняет задачу  их идентификации и ликвидации послед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ствия акции РХБ терроризма могут быть пролонгированы на длительный срок, а количество пораженных при применении биологических средств, при отсутствии защитных мер, может расти в геометрической прог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ьно-психологическое воздействие характера поражения от этих веществ несравненно выше, чем от взрывчатых вещест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  <Words>2910</Words>
  <Paragraphs>409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41:22Z</dcterms:created>
  <dc:creator>Kirillov</dc:creator>
  <dc:description/>
  <dc:language>en-US</dc:language>
  <cp:lastModifiedBy>user</cp:lastModifiedBy>
  <dcterms:modified xsi:type="dcterms:W3CDTF">2012-07-16T06:08:18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  <property fmtid="{D5CDD505-2E9C-101B-9397-08002B2CF9AE}" pid="5" name="_TemplateID">
    <vt:lpwstr>TC011408031049</vt:lpwstr>
  </property>
</Properties>
</file>